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CAB-A525-4867-B030-7FA04ABD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08AC-1186-461C-BD14-84ED7253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228-7367-4038-A101-88B60DB4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3CC4-BD2B-429B-8AF9-5207408F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4198-E73F-4892-A708-64A5DE55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0D9D-21B2-4BF6-B995-C391714C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3839-1980-4F76-977C-F87E32D7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909-ABA1-46B0-B073-2A43E529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3F0-7F76-493D-9DE2-3239300E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9E3-93F3-4614-8BB9-94DC1F4D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F61-31F1-40D6-BE39-0F4EE8AA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F823-D510-44A9-A5ED-45ED8F8F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AA37-A224-4420-ACC6-E637C583F3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手机端学习网络课堂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539640" y="1054080"/>
            <a:ext cx="82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在手机上或者电脑上登录红缨后花园网站，进入网络课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1019160" y="1628640"/>
            <a:ext cx="724860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612720" y="981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在网络课堂功能区点击“下载专区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784872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353440" cy="43052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735360" y="85716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然后根据您手机的系统（安卓版、苹果版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选择对应的手机客户端软件下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00000" y="1197000"/>
            <a:ext cx="7386840" cy="82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特别说明：在手机端登录的时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公司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I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ho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，用户名和密码均为您登陆红缨后花园的用户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900000" y="2492280"/>
            <a:ext cx="73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即：如果您登陆红缨后花园的用户名为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LN.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那么您在手机端登录时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用户名和密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也是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LN.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注意大小写务必一致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hoing\Desktop\QQ截图20141218141616.png"/>
          <p:cNvPicPr/>
          <p:nvPr/>
        </p:nvPicPr>
        <p:blipFill>
          <a:blip r:embed="rId1"/>
          <a:stretch/>
        </p:blipFill>
        <p:spPr>
          <a:xfrm>
            <a:off x="5908680" y="4071960"/>
            <a:ext cx="2378160" cy="258768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1"/>
          <p:cNvSpPr/>
          <p:nvPr/>
        </p:nvSpPr>
        <p:spPr>
          <a:xfrm>
            <a:off x="3276720" y="76320"/>
            <a:ext cx="2144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重点提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hoing</dc:creator>
  <dc:description/>
  <cp:keywords/>
  <dc:language>en-US</dc:language>
  <cp:lastModifiedBy>朱静</cp:lastModifiedBy>
  <dcterms:modified xsi:type="dcterms:W3CDTF">2017-03-23T09:03:55Z</dcterms:modified>
  <cp:revision>9</cp:revision>
  <dc:subject/>
  <dc:title>手机端学习网络课堂说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