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71640" y="283140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0888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352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540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7164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352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540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1640" y="988560"/>
            <a:ext cx="74880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spcBef>
                <a:spcPts val="488"/>
              </a:spcBef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7488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71640" y="267840"/>
            <a:ext cx="74880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5000"/>
              </a:lnSpc>
              <a:spcBef>
                <a:spcPts val="488"/>
              </a:spcBef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71640" y="988560"/>
            <a:ext cx="74880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spcBef>
                <a:spcPts val="488"/>
              </a:spcBef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0888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71640" y="283140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0888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352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540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7164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352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540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988560"/>
            <a:ext cx="74880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spcBef>
                <a:spcPts val="488"/>
              </a:spcBef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7488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7488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71640" y="267840"/>
            <a:ext cx="74880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5000"/>
              </a:lnSpc>
              <a:spcBef>
                <a:spcPts val="488"/>
              </a:spcBef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0888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71640" y="283140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0888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352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540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7164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0352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540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71640" y="988560"/>
            <a:ext cx="74880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spcBef>
                <a:spcPts val="488"/>
              </a:spcBef>
              <a:buNone/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7488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71640" y="267840"/>
            <a:ext cx="74880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5000"/>
              </a:lnSpc>
              <a:spcBef>
                <a:spcPts val="488"/>
              </a:spcBef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0888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71640" y="283140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0888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0352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35400" y="98856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7164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0352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35400" y="2831400"/>
            <a:ext cx="241092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1640" y="267840"/>
            <a:ext cx="74880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5000"/>
              </a:lnSpc>
              <a:spcBef>
                <a:spcPts val="488"/>
              </a:spcBef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8880" y="283140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8880" y="988560"/>
            <a:ext cx="3654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2831400"/>
            <a:ext cx="7488000" cy="1682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indent="0">
              <a:lnSpc>
                <a:spcPct val="135000"/>
              </a:lnSpc>
              <a:spcBef>
                <a:spcPts val="488"/>
              </a:spcBef>
              <a:buNone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拼墙线描图"/>
          <p:cNvPicPr/>
          <p:nvPr/>
        </p:nvPicPr>
        <p:blipFill>
          <a:blip r:embed="rId2"/>
          <a:stretch/>
        </p:blipFill>
        <p:spPr>
          <a:xfrm>
            <a:off x="5164200" y="1173240"/>
            <a:ext cx="3944880" cy="2801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640" y="267840"/>
            <a:ext cx="7488000" cy="50508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marL="72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1640" y="988560"/>
            <a:ext cx="7488000" cy="352764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t">
            <a:normAutofit/>
          </a:bodyPr>
          <a:p>
            <a:pPr marL="363600" indent="-363600">
              <a:lnSpc>
                <a:spcPct val="135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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300240">
              <a:lnSpc>
                <a:spcPct val="135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71440">
              <a:lnSpc>
                <a:spcPct val="135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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93920" indent="-304920">
              <a:lnSpc>
                <a:spcPct val="135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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755720" indent="-304920">
              <a:lnSpc>
                <a:spcPct val="135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755720" indent="-304920">
              <a:lnSpc>
                <a:spcPct val="135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755720" indent="-304920">
              <a:lnSpc>
                <a:spcPct val="135000"/>
              </a:lnSpc>
              <a:spcBef>
                <a:spcPts val="488"/>
              </a:spcBef>
              <a:buClr>
                <a:srgbClr val="000000"/>
              </a:buClr>
              <a:buFont typeface="Wingdings" charset="2"/>
              <a:buChar char=""/>
              <a:tabLst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195120"/>
          </a:xfrm>
          <a:prstGeom prst="rect">
            <a:avLst/>
          </a:prstGeom>
          <a:solidFill>
            <a:srgbClr val="e5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 flipH="1">
            <a:off x="971280" y="844560"/>
            <a:ext cx="8172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IDB描图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08000" y="3227400"/>
            <a:ext cx="1868400" cy="15033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1"/>
          <p:cNvSpPr/>
          <p:nvPr/>
        </p:nvSpPr>
        <p:spPr>
          <a:xfrm>
            <a:off x="0" y="5070600"/>
            <a:ext cx="9144000" cy="7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3851280" y="4516560"/>
            <a:ext cx="2014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图片 20" descr=""/>
          <p:cNvPicPr/>
          <p:nvPr/>
        </p:nvPicPr>
        <p:blipFill>
          <a:blip r:embed="rId4"/>
          <a:stretch/>
        </p:blipFill>
        <p:spPr>
          <a:xfrm>
            <a:off x="7399440" y="4545000"/>
            <a:ext cx="17128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8" descr="拼墙线描图"/>
          <p:cNvPicPr/>
          <p:nvPr/>
        </p:nvPicPr>
        <p:blipFill>
          <a:blip r:embed="rId2"/>
          <a:stretch/>
        </p:blipFill>
        <p:spPr>
          <a:xfrm>
            <a:off x="5165640" y="1173240"/>
            <a:ext cx="3943440" cy="2801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360" y="140760"/>
            <a:ext cx="770400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4920" y="950400"/>
            <a:ext cx="828036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9144000" cy="195120"/>
          </a:xfrm>
          <a:prstGeom prst="rect">
            <a:avLst/>
          </a:prstGeom>
          <a:solidFill>
            <a:srgbClr val="e5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H="1">
            <a:off x="0" y="62712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logo1"/>
          <p:cNvPicPr/>
          <p:nvPr/>
        </p:nvPicPr>
        <p:blipFill>
          <a:blip r:embed="rId3"/>
          <a:stretch/>
        </p:blipFill>
        <p:spPr>
          <a:xfrm>
            <a:off x="7451640" y="4761000"/>
            <a:ext cx="1511280" cy="187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1"/>
          <p:cNvSpPr/>
          <p:nvPr/>
        </p:nvSpPr>
        <p:spPr>
          <a:xfrm>
            <a:off x="0" y="5070600"/>
            <a:ext cx="9144000" cy="7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1"/>
          </p:nvPr>
        </p:nvSpPr>
        <p:spPr>
          <a:xfrm>
            <a:off x="107640" y="4839840"/>
            <a:ext cx="6476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9" descr="IDB描图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08000" y="3279600"/>
            <a:ext cx="1868400" cy="15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8" descr="拼墙线描图"/>
          <p:cNvPicPr/>
          <p:nvPr/>
        </p:nvPicPr>
        <p:blipFill>
          <a:blip r:embed="rId2"/>
          <a:stretch/>
        </p:blipFill>
        <p:spPr>
          <a:xfrm>
            <a:off x="5165640" y="1173240"/>
            <a:ext cx="3943440" cy="2801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360" y="140760"/>
            <a:ext cx="770400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94920" y="950400"/>
            <a:ext cx="828036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195120"/>
          </a:xfrm>
          <a:prstGeom prst="rect">
            <a:avLst/>
          </a:prstGeom>
          <a:solidFill>
            <a:srgbClr val="e5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 flipH="1">
            <a:off x="0" y="62712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logo1"/>
          <p:cNvPicPr/>
          <p:nvPr/>
        </p:nvPicPr>
        <p:blipFill>
          <a:blip r:embed="rId3"/>
          <a:stretch/>
        </p:blipFill>
        <p:spPr>
          <a:xfrm>
            <a:off x="7451640" y="4761000"/>
            <a:ext cx="1511280" cy="18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1"/>
          <p:cNvSpPr/>
          <p:nvPr/>
        </p:nvSpPr>
        <p:spPr>
          <a:xfrm>
            <a:off x="0" y="5070600"/>
            <a:ext cx="9144000" cy="7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2"/>
          </p:nvPr>
        </p:nvSpPr>
        <p:spPr>
          <a:xfrm>
            <a:off x="107640" y="4839840"/>
            <a:ext cx="6476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9" descr="IDB描图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08000" y="3279600"/>
            <a:ext cx="1868400" cy="15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8" descr="拼墙线描图"/>
          <p:cNvPicPr/>
          <p:nvPr/>
        </p:nvPicPr>
        <p:blipFill>
          <a:blip r:embed="rId2"/>
          <a:stretch/>
        </p:blipFill>
        <p:spPr>
          <a:xfrm>
            <a:off x="5165640" y="1173240"/>
            <a:ext cx="3943440" cy="2801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360" y="140760"/>
            <a:ext cx="7704000" cy="5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94920" y="950400"/>
            <a:ext cx="828036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3808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0"/>
            <a:ext cx="9144000" cy="195120"/>
          </a:xfrm>
          <a:prstGeom prst="rect">
            <a:avLst/>
          </a:prstGeom>
          <a:solidFill>
            <a:srgbClr val="e5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H="1">
            <a:off x="0" y="627120"/>
            <a:ext cx="914400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logo1"/>
          <p:cNvPicPr/>
          <p:nvPr/>
        </p:nvPicPr>
        <p:blipFill>
          <a:blip r:embed="rId3"/>
          <a:stretch/>
        </p:blipFill>
        <p:spPr>
          <a:xfrm>
            <a:off x="7451640" y="4761000"/>
            <a:ext cx="1511280" cy="187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1"/>
          <p:cNvSpPr/>
          <p:nvPr/>
        </p:nvSpPr>
        <p:spPr>
          <a:xfrm>
            <a:off x="0" y="5070600"/>
            <a:ext cx="9144000" cy="73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3"/>
          </p:nvPr>
        </p:nvSpPr>
        <p:spPr>
          <a:xfrm>
            <a:off x="107640" y="4839840"/>
            <a:ext cx="64764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9" descr="IDB描图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08000" y="3279600"/>
            <a:ext cx="1868400" cy="15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9144000" cy="3371760"/>
          </a:xfrm>
          <a:prstGeom prst="rect">
            <a:avLst/>
          </a:prstGeom>
          <a:solidFill>
            <a:srgbClr val="e5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 flipH="1">
            <a:off x="1142640" y="2211480"/>
            <a:ext cx="8001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722920" y="2498760"/>
            <a:ext cx="2448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284720" y="2354400"/>
            <a:ext cx="4390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7280" y="1135080"/>
            <a:ext cx="7702560" cy="1247760"/>
          </a:xfrm>
          <a:prstGeom prst="rect">
            <a:avLst/>
          </a:prstGeom>
          <a:noFill/>
          <a:ln w="0">
            <a:noFill/>
          </a:ln>
        </p:spPr>
        <p:txBody>
          <a:bodyPr lIns="72720" rIns="72720" tIns="36360" bIns="3636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</a:t>
            </a:r>
            <a:endParaRPr b="0" lang="en-US" sz="4400" spc="-1" strike="noStrike">
              <a:solidFill>
                <a:srgbClr val="e5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3708360" y="2357280"/>
            <a:ext cx="2303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20" descr=""/>
          <p:cNvPicPr/>
          <p:nvPr/>
        </p:nvPicPr>
        <p:blipFill>
          <a:blip r:embed="rId1"/>
          <a:stretch/>
        </p:blipFill>
        <p:spPr>
          <a:xfrm>
            <a:off x="7236000" y="4562640"/>
            <a:ext cx="1857240" cy="54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914400" y="216000"/>
            <a:ext cx="74674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XXXXXXX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28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号微软雅黑，红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993600" y="1549440"/>
            <a:ext cx="78994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正文原则上使用微软雅黑字体，黑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正文内容原则上不能覆盖右下角的“红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LOG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117440" y="1204920"/>
            <a:ext cx="7938360" cy="3720960"/>
            <a:chOff x="1117440" y="1204920"/>
            <a:chExt cx="7938360" cy="3720960"/>
          </a:xfrm>
        </p:grpSpPr>
        <p:grpSp>
          <p:nvGrpSpPr>
            <p:cNvPr id="190" name="Group 3"/>
            <p:cNvGrpSpPr/>
            <p:nvPr/>
          </p:nvGrpSpPr>
          <p:grpSpPr>
            <a:xfrm>
              <a:off x="1117440" y="1346400"/>
              <a:ext cx="1718280" cy="1631520"/>
              <a:chOff x="1117440" y="1346400"/>
              <a:chExt cx="1718280" cy="1631520"/>
            </a:xfrm>
          </p:grpSpPr>
          <p:sp>
            <p:nvSpPr>
              <p:cNvPr id="191" name="矩形 39"/>
              <p:cNvSpPr/>
              <p:nvPr/>
            </p:nvSpPr>
            <p:spPr>
              <a:xfrm>
                <a:off x="1117440" y="1346400"/>
                <a:ext cx="1395000" cy="1348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任意多边形 54"/>
              <p:cNvSpPr/>
              <p:nvPr/>
            </p:nvSpPr>
            <p:spPr>
              <a:xfrm rot="2700000">
                <a:off x="1425240" y="1772640"/>
                <a:ext cx="1320480" cy="80028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800280"/>
                  <a:gd name="textAreaBottom" fmla="*/ 800640 h 800280"/>
                </a:gdLst>
                <a:ahLst/>
                <a:rect l="textAreaLeft" t="textAreaTop" r="textAreaRight" b="textAreaBottom"/>
                <a:pathLst>
                  <a:path w="1670825" h="978726">
                    <a:moveTo>
                      <a:pt x="397931" y="0"/>
                    </a:moveTo>
                    <a:lnTo>
                      <a:pt x="1083329" y="0"/>
                    </a:lnTo>
                    <a:lnTo>
                      <a:pt x="1670825" y="587495"/>
                    </a:lnTo>
                    <a:lnTo>
                      <a:pt x="1279594" y="978726"/>
                    </a:lnTo>
                    <a:lnTo>
                      <a:pt x="723884" y="978726"/>
                    </a:lnTo>
                    <a:lnTo>
                      <a:pt x="723884" y="777240"/>
                    </a:lnTo>
                    <a:lnTo>
                      <a:pt x="541615" y="777240"/>
                    </a:lnTo>
                    <a:lnTo>
                      <a:pt x="503169" y="569272"/>
                    </a:lnTo>
                    <a:lnTo>
                      <a:pt x="482317" y="590124"/>
                    </a:lnTo>
                    <a:lnTo>
                      <a:pt x="456360" y="564168"/>
                    </a:lnTo>
                    <a:lnTo>
                      <a:pt x="456360" y="626726"/>
                    </a:lnTo>
                    <a:lnTo>
                      <a:pt x="0" y="626726"/>
                    </a:lnTo>
                    <a:lnTo>
                      <a:pt x="35921" y="427351"/>
                    </a:lnTo>
                    <a:lnTo>
                      <a:pt x="297220" y="405027"/>
                    </a:lnTo>
                    <a:lnTo>
                      <a:pt x="229208" y="337014"/>
                    </a:lnTo>
                    <a:lnTo>
                      <a:pt x="424188" y="142035"/>
                    </a:lnTo>
                    <a:lnTo>
                      <a:pt x="397931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文本框 33"/>
              <p:cNvSpPr/>
              <p:nvPr/>
            </p:nvSpPr>
            <p:spPr>
              <a:xfrm>
                <a:off x="1354680" y="1420920"/>
                <a:ext cx="886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T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7"/>
            <p:cNvGrpSpPr/>
            <p:nvPr/>
          </p:nvGrpSpPr>
          <p:grpSpPr>
            <a:xfrm>
              <a:off x="2633400" y="1346400"/>
              <a:ext cx="1735920" cy="1696320"/>
              <a:chOff x="2633400" y="1346400"/>
              <a:chExt cx="1735920" cy="1696320"/>
            </a:xfrm>
          </p:grpSpPr>
          <p:sp>
            <p:nvSpPr>
              <p:cNvPr id="195" name="矩形 40"/>
              <p:cNvSpPr/>
              <p:nvPr/>
            </p:nvSpPr>
            <p:spPr>
              <a:xfrm>
                <a:off x="2633400" y="1346400"/>
                <a:ext cx="1395720" cy="13492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任意多边形 60"/>
              <p:cNvSpPr/>
              <p:nvPr/>
            </p:nvSpPr>
            <p:spPr>
              <a:xfrm rot="2700000">
                <a:off x="2890080" y="1728360"/>
                <a:ext cx="1321920" cy="992160"/>
              </a:xfrm>
              <a:custGeom>
                <a:avLst/>
                <a:gdLst>
                  <a:gd name="textAreaLeft" fmla="*/ 0 w 1321920"/>
                  <a:gd name="textAreaRight" fmla="*/ 1322280 w 1321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1671608" h="1212361">
                    <a:moveTo>
                      <a:pt x="417057" y="0"/>
                    </a:moveTo>
                    <a:lnTo>
                      <a:pt x="1059765" y="0"/>
                    </a:lnTo>
                    <a:lnTo>
                      <a:pt x="1671608" y="611843"/>
                    </a:lnTo>
                    <a:lnTo>
                      <a:pt x="1071091" y="1212361"/>
                    </a:lnTo>
                    <a:lnTo>
                      <a:pt x="514340" y="1212361"/>
                    </a:lnTo>
                    <a:lnTo>
                      <a:pt x="514340" y="972462"/>
                    </a:lnTo>
                    <a:lnTo>
                      <a:pt x="321043" y="952029"/>
                    </a:lnTo>
                    <a:lnTo>
                      <a:pt x="0" y="417058"/>
                    </a:lnTo>
                    <a:lnTo>
                      <a:pt x="557442" y="417058"/>
                    </a:lnTo>
                    <a:lnTo>
                      <a:pt x="417057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文本框 34"/>
              <p:cNvSpPr/>
              <p:nvPr/>
            </p:nvSpPr>
            <p:spPr>
              <a:xfrm>
                <a:off x="2762280" y="1419840"/>
                <a:ext cx="11134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H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1"/>
            <p:cNvGrpSpPr/>
            <p:nvPr/>
          </p:nvGrpSpPr>
          <p:grpSpPr>
            <a:xfrm>
              <a:off x="4149360" y="1346400"/>
              <a:ext cx="1609920" cy="1726920"/>
              <a:chOff x="4149360" y="1346400"/>
              <a:chExt cx="1609920" cy="1726920"/>
            </a:xfrm>
          </p:grpSpPr>
          <p:sp>
            <p:nvSpPr>
              <p:cNvPr id="199" name="矩形 41"/>
              <p:cNvSpPr/>
              <p:nvPr/>
            </p:nvSpPr>
            <p:spPr>
              <a:xfrm>
                <a:off x="4149360" y="1346400"/>
                <a:ext cx="1396440" cy="1348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70"/>
              <p:cNvSpPr/>
              <p:nvPr/>
            </p:nvSpPr>
            <p:spPr>
              <a:xfrm rot="2700000">
                <a:off x="4467960" y="1927440"/>
                <a:ext cx="1154520" cy="864360"/>
              </a:xfrm>
              <a:custGeom>
                <a:avLst/>
                <a:gdLst>
                  <a:gd name="textAreaLeft" fmla="*/ 0 w 1154520"/>
                  <a:gd name="textAreaRight" fmla="*/ 1154880 w 1154520"/>
                  <a:gd name="textAreaTop" fmla="*/ 0 h 864360"/>
                  <a:gd name="textAreaBottom" fmla="*/ 864720 h 864360"/>
                </a:gdLst>
                <a:ahLst/>
                <a:rect l="textAreaLeft" t="textAreaTop" r="textAreaRight" b="textAreaBottom"/>
                <a:pathLst>
                  <a:path w="1460056" h="1055907">
                    <a:moveTo>
                      <a:pt x="0" y="0"/>
                    </a:moveTo>
                    <a:lnTo>
                      <a:pt x="1066274" y="0"/>
                    </a:lnTo>
                    <a:lnTo>
                      <a:pt x="1460056" y="393783"/>
                    </a:lnTo>
                    <a:lnTo>
                      <a:pt x="797932" y="1055907"/>
                    </a:lnTo>
                    <a:lnTo>
                      <a:pt x="249655" y="1055907"/>
                    </a:lnTo>
                    <a:lnTo>
                      <a:pt x="249655" y="632053"/>
                    </a:lnTo>
                    <a:lnTo>
                      <a:pt x="153010" y="632053"/>
                    </a:lnTo>
                    <a:lnTo>
                      <a:pt x="153010" y="485775"/>
                    </a:lnTo>
                    <a:lnTo>
                      <a:pt x="0" y="4857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文本框 35"/>
              <p:cNvSpPr/>
              <p:nvPr/>
            </p:nvSpPr>
            <p:spPr>
              <a:xfrm>
                <a:off x="4303080" y="1420920"/>
                <a:ext cx="10220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5"/>
            <p:cNvGrpSpPr/>
            <p:nvPr/>
          </p:nvGrpSpPr>
          <p:grpSpPr>
            <a:xfrm>
              <a:off x="1117440" y="2799000"/>
              <a:ext cx="1729080" cy="1712880"/>
              <a:chOff x="1117440" y="2799000"/>
              <a:chExt cx="1729080" cy="1712880"/>
            </a:xfrm>
          </p:grpSpPr>
          <p:sp>
            <p:nvSpPr>
              <p:cNvPr id="203" name="矩形 42"/>
              <p:cNvSpPr/>
              <p:nvPr/>
            </p:nvSpPr>
            <p:spPr>
              <a:xfrm>
                <a:off x="1117440" y="2799000"/>
                <a:ext cx="1396440" cy="1347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任意多边形 86"/>
              <p:cNvSpPr/>
              <p:nvPr/>
            </p:nvSpPr>
            <p:spPr>
              <a:xfrm rot="2700000">
                <a:off x="1348920" y="3174840"/>
                <a:ext cx="1334880" cy="1013040"/>
              </a:xfrm>
              <a:custGeom>
                <a:avLst/>
                <a:gdLst>
                  <a:gd name="textAreaLeft" fmla="*/ 0 w 1334880"/>
                  <a:gd name="textAreaRight" fmla="*/ 1335240 w 133488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690653" h="1237650">
                    <a:moveTo>
                      <a:pt x="429418" y="0"/>
                    </a:moveTo>
                    <a:lnTo>
                      <a:pt x="1085743" y="0"/>
                    </a:lnTo>
                    <a:lnTo>
                      <a:pt x="1690653" y="604910"/>
                    </a:lnTo>
                    <a:lnTo>
                      <a:pt x="1057912" y="1237650"/>
                    </a:lnTo>
                    <a:lnTo>
                      <a:pt x="506069" y="1237650"/>
                    </a:lnTo>
                    <a:lnTo>
                      <a:pt x="506069" y="995268"/>
                    </a:lnTo>
                    <a:lnTo>
                      <a:pt x="377170" y="1009489"/>
                    </a:lnTo>
                    <a:lnTo>
                      <a:pt x="0" y="429421"/>
                    </a:lnTo>
                    <a:lnTo>
                      <a:pt x="708204" y="429420"/>
                    </a:lnTo>
                    <a:lnTo>
                      <a:pt x="429418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文本框 36"/>
              <p:cNvSpPr/>
              <p:nvPr/>
            </p:nvSpPr>
            <p:spPr>
              <a:xfrm>
                <a:off x="1198800" y="2873520"/>
                <a:ext cx="1171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N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9"/>
            <p:cNvGrpSpPr/>
            <p:nvPr/>
          </p:nvGrpSpPr>
          <p:grpSpPr>
            <a:xfrm>
              <a:off x="2633400" y="2799000"/>
              <a:ext cx="1723680" cy="1676880"/>
              <a:chOff x="2633400" y="2799000"/>
              <a:chExt cx="1723680" cy="1676880"/>
            </a:xfrm>
          </p:grpSpPr>
          <p:sp>
            <p:nvSpPr>
              <p:cNvPr id="207" name="矩形 43"/>
              <p:cNvSpPr/>
              <p:nvPr/>
            </p:nvSpPr>
            <p:spPr>
              <a:xfrm>
                <a:off x="2633400" y="2799000"/>
                <a:ext cx="1396800" cy="1347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任意多边形 92"/>
              <p:cNvSpPr/>
              <p:nvPr/>
            </p:nvSpPr>
            <p:spPr>
              <a:xfrm rot="2700000">
                <a:off x="2915280" y="3205800"/>
                <a:ext cx="1294560" cy="951840"/>
              </a:xfrm>
              <a:custGeom>
                <a:avLst/>
                <a:gdLst>
                  <a:gd name="textAreaLeft" fmla="*/ 0 w 1294560"/>
                  <a:gd name="textAreaRight" fmla="*/ 1294920 w 1294560"/>
                  <a:gd name="textAreaTop" fmla="*/ 0 h 951840"/>
                  <a:gd name="textAreaBottom" fmla="*/ 952200 h 951840"/>
                </a:gdLst>
                <a:ahLst/>
                <a:rect l="textAreaLeft" t="textAreaTop" r="textAreaRight" b="textAreaBottom"/>
                <a:pathLst>
                  <a:path w="1638566" h="1162786">
                    <a:moveTo>
                      <a:pt x="370069" y="0"/>
                    </a:moveTo>
                    <a:lnTo>
                      <a:pt x="1044580" y="0"/>
                    </a:lnTo>
                    <a:lnTo>
                      <a:pt x="1638566" y="593987"/>
                    </a:lnTo>
                    <a:lnTo>
                      <a:pt x="1069767" y="1162786"/>
                    </a:lnTo>
                    <a:lnTo>
                      <a:pt x="511020" y="1162786"/>
                    </a:lnTo>
                    <a:lnTo>
                      <a:pt x="511020" y="901562"/>
                    </a:lnTo>
                    <a:lnTo>
                      <a:pt x="338443" y="908043"/>
                    </a:lnTo>
                    <a:lnTo>
                      <a:pt x="0" y="370070"/>
                    </a:lnTo>
                    <a:lnTo>
                      <a:pt x="370069" y="370070"/>
                    </a:lnTo>
                    <a:lnTo>
                      <a:pt x="370069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文本框 37"/>
              <p:cNvSpPr/>
              <p:nvPr/>
            </p:nvSpPr>
            <p:spPr>
              <a:xfrm>
                <a:off x="2791800" y="2871000"/>
                <a:ext cx="9900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K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23"/>
            <p:cNvGrpSpPr/>
            <p:nvPr/>
          </p:nvGrpSpPr>
          <p:grpSpPr>
            <a:xfrm>
              <a:off x="4149360" y="2799000"/>
              <a:ext cx="1661760" cy="1663920"/>
              <a:chOff x="4149360" y="2799000"/>
              <a:chExt cx="1661760" cy="1663920"/>
            </a:xfrm>
          </p:grpSpPr>
          <p:sp>
            <p:nvSpPr>
              <p:cNvPr id="211" name="矩形 44"/>
              <p:cNvSpPr/>
              <p:nvPr/>
            </p:nvSpPr>
            <p:spPr>
              <a:xfrm>
                <a:off x="4149360" y="2799000"/>
                <a:ext cx="1396440" cy="13478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102"/>
              <p:cNvSpPr/>
              <p:nvPr/>
            </p:nvSpPr>
            <p:spPr>
              <a:xfrm rot="2700000">
                <a:off x="4500000" y="3324960"/>
                <a:ext cx="1188000" cy="840600"/>
              </a:xfrm>
              <a:custGeom>
                <a:avLst/>
                <a:gdLst>
                  <a:gd name="textAreaLeft" fmla="*/ 0 w 1188000"/>
                  <a:gd name="textAreaRight" fmla="*/ 1188360 w 1188000"/>
                  <a:gd name="textAreaTop" fmla="*/ 0 h 840600"/>
                  <a:gd name="textAreaBottom" fmla="*/ 840960 h 840600"/>
                </a:gdLst>
                <a:ahLst/>
                <a:rect l="textAreaLeft" t="textAreaTop" r="textAreaRight" b="textAreaBottom"/>
                <a:pathLst>
                  <a:path w="1503703" h="1026825">
                    <a:moveTo>
                      <a:pt x="0" y="147470"/>
                    </a:moveTo>
                    <a:lnTo>
                      <a:pt x="147473" y="147470"/>
                    </a:lnTo>
                    <a:lnTo>
                      <a:pt x="147473" y="0"/>
                    </a:lnTo>
                    <a:lnTo>
                      <a:pt x="1018117" y="0"/>
                    </a:lnTo>
                    <a:lnTo>
                      <a:pt x="1503703" y="485585"/>
                    </a:lnTo>
                    <a:lnTo>
                      <a:pt x="962463" y="1026825"/>
                    </a:lnTo>
                    <a:lnTo>
                      <a:pt x="354946" y="1026825"/>
                    </a:lnTo>
                    <a:lnTo>
                      <a:pt x="600623" y="655042"/>
                    </a:lnTo>
                    <a:lnTo>
                      <a:pt x="92700" y="655042"/>
                    </a:lnTo>
                    <a:lnTo>
                      <a:pt x="92700" y="633245"/>
                    </a:lnTo>
                    <a:lnTo>
                      <a:pt x="0" y="633245"/>
                    </a:lnTo>
                    <a:lnTo>
                      <a:pt x="0" y="14747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文本框 38"/>
              <p:cNvSpPr/>
              <p:nvPr/>
            </p:nvSpPr>
            <p:spPr>
              <a:xfrm>
                <a:off x="4380120" y="2873520"/>
                <a:ext cx="8528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S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27"/>
            <p:cNvGrpSpPr/>
            <p:nvPr/>
          </p:nvGrpSpPr>
          <p:grpSpPr>
            <a:xfrm>
              <a:off x="5658480" y="1204920"/>
              <a:ext cx="3397320" cy="3720960"/>
              <a:chOff x="5658480" y="1204920"/>
              <a:chExt cx="3397320" cy="3720960"/>
            </a:xfrm>
          </p:grpSpPr>
          <p:sp>
            <p:nvSpPr>
              <p:cNvPr id="215" name="矩形 45"/>
              <p:cNvSpPr/>
              <p:nvPr/>
            </p:nvSpPr>
            <p:spPr>
              <a:xfrm>
                <a:off x="5658480" y="1346400"/>
                <a:ext cx="2885040" cy="2787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任意多边形 77"/>
              <p:cNvSpPr/>
              <p:nvPr/>
            </p:nvSpPr>
            <p:spPr>
              <a:xfrm rot="2700000">
                <a:off x="6411240" y="2495160"/>
                <a:ext cx="2473560" cy="1507680"/>
              </a:xfrm>
              <a:custGeom>
                <a:avLst/>
                <a:gdLst>
                  <a:gd name="textAreaLeft" fmla="*/ 0 w 2473560"/>
                  <a:gd name="textAreaRight" fmla="*/ 2473920 w 2473560"/>
                  <a:gd name="textAreaTop" fmla="*/ 0 h 1507680"/>
                  <a:gd name="textAreaBottom" fmla="*/ 1508040 h 1507680"/>
                </a:gdLst>
                <a:ahLst/>
                <a:rect l="textAreaLeft" t="textAreaTop" r="textAreaRight" b="textAreaBottom"/>
                <a:pathLst>
                  <a:path w="3130099" h="1843022">
                    <a:moveTo>
                      <a:pt x="0" y="0"/>
                    </a:moveTo>
                    <a:lnTo>
                      <a:pt x="2191889" y="0"/>
                    </a:lnTo>
                    <a:lnTo>
                      <a:pt x="3130099" y="938210"/>
                    </a:lnTo>
                    <a:lnTo>
                      <a:pt x="2225288" y="1843021"/>
                    </a:lnTo>
                    <a:lnTo>
                      <a:pt x="1226464" y="1843022"/>
                    </a:lnTo>
                    <a:lnTo>
                      <a:pt x="1226464" y="1380257"/>
                    </a:lnTo>
                    <a:lnTo>
                      <a:pt x="892873" y="1380257"/>
                    </a:lnTo>
                    <a:lnTo>
                      <a:pt x="892873" y="1250456"/>
                    </a:lnTo>
                    <a:lnTo>
                      <a:pt x="814959" y="1249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46"/>
              <p:cNvSpPr/>
              <p:nvPr/>
            </p:nvSpPr>
            <p:spPr>
              <a:xfrm>
                <a:off x="6505920" y="1204920"/>
                <a:ext cx="1186560" cy="37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9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800" spc="-1" strike="noStrike">
                    <a:solidFill>
                      <a:srgbClr val="fcf6e6"/>
                    </a:solidFill>
                    <a:latin typeface="Arial"/>
                    <a:ea typeface="微软雅黑"/>
                  </a:rPr>
                  <a:t>!</a:t>
                </a:r>
                <a:endParaRPr b="0" lang="en-US" sz="2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3371760"/>
          </a:xfrm>
          <a:prstGeom prst="rect">
            <a:avLst/>
          </a:prstGeom>
          <a:solidFill>
            <a:srgbClr val="e5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 flipH="1">
            <a:off x="1142640" y="2211480"/>
            <a:ext cx="8001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22920" y="2498760"/>
            <a:ext cx="2448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284720" y="2354400"/>
            <a:ext cx="4390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1117440" y="1204920"/>
            <a:ext cx="7938360" cy="3720960"/>
            <a:chOff x="1117440" y="1204920"/>
            <a:chExt cx="7938360" cy="3720960"/>
          </a:xfrm>
        </p:grpSpPr>
        <p:grpSp>
          <p:nvGrpSpPr>
            <p:cNvPr id="223" name="Group 3"/>
            <p:cNvGrpSpPr/>
            <p:nvPr/>
          </p:nvGrpSpPr>
          <p:grpSpPr>
            <a:xfrm>
              <a:off x="1117440" y="1346400"/>
              <a:ext cx="1718280" cy="1631520"/>
              <a:chOff x="1117440" y="1346400"/>
              <a:chExt cx="1718280" cy="1631520"/>
            </a:xfrm>
          </p:grpSpPr>
          <p:sp>
            <p:nvSpPr>
              <p:cNvPr id="224" name="矩形 39"/>
              <p:cNvSpPr/>
              <p:nvPr/>
            </p:nvSpPr>
            <p:spPr>
              <a:xfrm>
                <a:off x="1117440" y="1346400"/>
                <a:ext cx="1395000" cy="1348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任意多边形 54"/>
              <p:cNvSpPr/>
              <p:nvPr/>
            </p:nvSpPr>
            <p:spPr>
              <a:xfrm rot="2700000">
                <a:off x="1425240" y="1772640"/>
                <a:ext cx="1320480" cy="80028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800280"/>
                  <a:gd name="textAreaBottom" fmla="*/ 800640 h 800280"/>
                </a:gdLst>
                <a:ahLst/>
                <a:rect l="textAreaLeft" t="textAreaTop" r="textAreaRight" b="textAreaBottom"/>
                <a:pathLst>
                  <a:path w="1670825" h="978726">
                    <a:moveTo>
                      <a:pt x="397931" y="0"/>
                    </a:moveTo>
                    <a:lnTo>
                      <a:pt x="1083329" y="0"/>
                    </a:lnTo>
                    <a:lnTo>
                      <a:pt x="1670825" y="587495"/>
                    </a:lnTo>
                    <a:lnTo>
                      <a:pt x="1279594" y="978726"/>
                    </a:lnTo>
                    <a:lnTo>
                      <a:pt x="723884" y="978726"/>
                    </a:lnTo>
                    <a:lnTo>
                      <a:pt x="723884" y="777240"/>
                    </a:lnTo>
                    <a:lnTo>
                      <a:pt x="541615" y="777240"/>
                    </a:lnTo>
                    <a:lnTo>
                      <a:pt x="503169" y="569272"/>
                    </a:lnTo>
                    <a:lnTo>
                      <a:pt x="482317" y="590124"/>
                    </a:lnTo>
                    <a:lnTo>
                      <a:pt x="456360" y="564168"/>
                    </a:lnTo>
                    <a:lnTo>
                      <a:pt x="456360" y="626726"/>
                    </a:lnTo>
                    <a:lnTo>
                      <a:pt x="0" y="626726"/>
                    </a:lnTo>
                    <a:lnTo>
                      <a:pt x="35921" y="427351"/>
                    </a:lnTo>
                    <a:lnTo>
                      <a:pt x="297220" y="405027"/>
                    </a:lnTo>
                    <a:lnTo>
                      <a:pt x="229208" y="337014"/>
                    </a:lnTo>
                    <a:lnTo>
                      <a:pt x="424188" y="142035"/>
                    </a:lnTo>
                    <a:lnTo>
                      <a:pt x="397931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文本框 33"/>
              <p:cNvSpPr/>
              <p:nvPr/>
            </p:nvSpPr>
            <p:spPr>
              <a:xfrm>
                <a:off x="1354680" y="1420920"/>
                <a:ext cx="886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T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7"/>
            <p:cNvGrpSpPr/>
            <p:nvPr/>
          </p:nvGrpSpPr>
          <p:grpSpPr>
            <a:xfrm>
              <a:off x="2633400" y="1346400"/>
              <a:ext cx="1735920" cy="1696320"/>
              <a:chOff x="2633400" y="1346400"/>
              <a:chExt cx="1735920" cy="1696320"/>
            </a:xfrm>
          </p:grpSpPr>
          <p:sp>
            <p:nvSpPr>
              <p:cNvPr id="228" name="矩形 40"/>
              <p:cNvSpPr/>
              <p:nvPr/>
            </p:nvSpPr>
            <p:spPr>
              <a:xfrm>
                <a:off x="2633400" y="1346400"/>
                <a:ext cx="1395720" cy="13492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 60"/>
              <p:cNvSpPr/>
              <p:nvPr/>
            </p:nvSpPr>
            <p:spPr>
              <a:xfrm rot="2700000">
                <a:off x="2890080" y="1728360"/>
                <a:ext cx="1321920" cy="992160"/>
              </a:xfrm>
              <a:custGeom>
                <a:avLst/>
                <a:gdLst>
                  <a:gd name="textAreaLeft" fmla="*/ 0 w 1321920"/>
                  <a:gd name="textAreaRight" fmla="*/ 1322280 w 13219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1671608" h="1212361">
                    <a:moveTo>
                      <a:pt x="417057" y="0"/>
                    </a:moveTo>
                    <a:lnTo>
                      <a:pt x="1059765" y="0"/>
                    </a:lnTo>
                    <a:lnTo>
                      <a:pt x="1671608" y="611843"/>
                    </a:lnTo>
                    <a:lnTo>
                      <a:pt x="1071091" y="1212361"/>
                    </a:lnTo>
                    <a:lnTo>
                      <a:pt x="514340" y="1212361"/>
                    </a:lnTo>
                    <a:lnTo>
                      <a:pt x="514340" y="972462"/>
                    </a:lnTo>
                    <a:lnTo>
                      <a:pt x="321043" y="952029"/>
                    </a:lnTo>
                    <a:lnTo>
                      <a:pt x="0" y="417058"/>
                    </a:lnTo>
                    <a:lnTo>
                      <a:pt x="557442" y="417058"/>
                    </a:lnTo>
                    <a:lnTo>
                      <a:pt x="417057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文本框 34"/>
              <p:cNvSpPr/>
              <p:nvPr/>
            </p:nvSpPr>
            <p:spPr>
              <a:xfrm>
                <a:off x="2762280" y="1419840"/>
                <a:ext cx="11134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H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1"/>
            <p:cNvGrpSpPr/>
            <p:nvPr/>
          </p:nvGrpSpPr>
          <p:grpSpPr>
            <a:xfrm>
              <a:off x="4149360" y="1346400"/>
              <a:ext cx="1609920" cy="1726920"/>
              <a:chOff x="4149360" y="1346400"/>
              <a:chExt cx="1609920" cy="1726920"/>
            </a:xfrm>
          </p:grpSpPr>
          <p:sp>
            <p:nvSpPr>
              <p:cNvPr id="232" name="矩形 41"/>
              <p:cNvSpPr/>
              <p:nvPr/>
            </p:nvSpPr>
            <p:spPr>
              <a:xfrm>
                <a:off x="4149360" y="1346400"/>
                <a:ext cx="1396440" cy="1348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 70"/>
              <p:cNvSpPr/>
              <p:nvPr/>
            </p:nvSpPr>
            <p:spPr>
              <a:xfrm rot="2700000">
                <a:off x="4467960" y="1927440"/>
                <a:ext cx="1154520" cy="864360"/>
              </a:xfrm>
              <a:custGeom>
                <a:avLst/>
                <a:gdLst>
                  <a:gd name="textAreaLeft" fmla="*/ 0 w 1154520"/>
                  <a:gd name="textAreaRight" fmla="*/ 1154880 w 1154520"/>
                  <a:gd name="textAreaTop" fmla="*/ 0 h 864360"/>
                  <a:gd name="textAreaBottom" fmla="*/ 864720 h 864360"/>
                </a:gdLst>
                <a:ahLst/>
                <a:rect l="textAreaLeft" t="textAreaTop" r="textAreaRight" b="textAreaBottom"/>
                <a:pathLst>
                  <a:path w="1460056" h="1055907">
                    <a:moveTo>
                      <a:pt x="0" y="0"/>
                    </a:moveTo>
                    <a:lnTo>
                      <a:pt x="1066274" y="0"/>
                    </a:lnTo>
                    <a:lnTo>
                      <a:pt x="1460056" y="393783"/>
                    </a:lnTo>
                    <a:lnTo>
                      <a:pt x="797932" y="1055907"/>
                    </a:lnTo>
                    <a:lnTo>
                      <a:pt x="249655" y="1055907"/>
                    </a:lnTo>
                    <a:lnTo>
                      <a:pt x="249655" y="632053"/>
                    </a:lnTo>
                    <a:lnTo>
                      <a:pt x="153010" y="632053"/>
                    </a:lnTo>
                    <a:lnTo>
                      <a:pt x="153010" y="485775"/>
                    </a:lnTo>
                    <a:lnTo>
                      <a:pt x="0" y="4857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文本框 35"/>
              <p:cNvSpPr/>
              <p:nvPr/>
            </p:nvSpPr>
            <p:spPr>
              <a:xfrm>
                <a:off x="4303080" y="1420920"/>
                <a:ext cx="10220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5"/>
            <p:cNvGrpSpPr/>
            <p:nvPr/>
          </p:nvGrpSpPr>
          <p:grpSpPr>
            <a:xfrm>
              <a:off x="1117440" y="2799000"/>
              <a:ext cx="1729080" cy="1712880"/>
              <a:chOff x="1117440" y="2799000"/>
              <a:chExt cx="1729080" cy="1712880"/>
            </a:xfrm>
          </p:grpSpPr>
          <p:sp>
            <p:nvSpPr>
              <p:cNvPr id="236" name="矩形 42"/>
              <p:cNvSpPr/>
              <p:nvPr/>
            </p:nvSpPr>
            <p:spPr>
              <a:xfrm>
                <a:off x="1117440" y="2799000"/>
                <a:ext cx="1396440" cy="1347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任意多边形 86"/>
              <p:cNvSpPr/>
              <p:nvPr/>
            </p:nvSpPr>
            <p:spPr>
              <a:xfrm rot="2700000">
                <a:off x="1348920" y="3174840"/>
                <a:ext cx="1334880" cy="1013040"/>
              </a:xfrm>
              <a:custGeom>
                <a:avLst/>
                <a:gdLst>
                  <a:gd name="textAreaLeft" fmla="*/ 0 w 1334880"/>
                  <a:gd name="textAreaRight" fmla="*/ 1335240 w 133488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690653" h="1237650">
                    <a:moveTo>
                      <a:pt x="429418" y="0"/>
                    </a:moveTo>
                    <a:lnTo>
                      <a:pt x="1085743" y="0"/>
                    </a:lnTo>
                    <a:lnTo>
                      <a:pt x="1690653" y="604910"/>
                    </a:lnTo>
                    <a:lnTo>
                      <a:pt x="1057912" y="1237650"/>
                    </a:lnTo>
                    <a:lnTo>
                      <a:pt x="506069" y="1237650"/>
                    </a:lnTo>
                    <a:lnTo>
                      <a:pt x="506069" y="995268"/>
                    </a:lnTo>
                    <a:lnTo>
                      <a:pt x="377170" y="1009489"/>
                    </a:lnTo>
                    <a:lnTo>
                      <a:pt x="0" y="429421"/>
                    </a:lnTo>
                    <a:lnTo>
                      <a:pt x="708204" y="429420"/>
                    </a:lnTo>
                    <a:lnTo>
                      <a:pt x="429418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文本框 36"/>
              <p:cNvSpPr/>
              <p:nvPr/>
            </p:nvSpPr>
            <p:spPr>
              <a:xfrm>
                <a:off x="1198800" y="2873520"/>
                <a:ext cx="1171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N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9"/>
            <p:cNvGrpSpPr/>
            <p:nvPr/>
          </p:nvGrpSpPr>
          <p:grpSpPr>
            <a:xfrm>
              <a:off x="2633400" y="2799000"/>
              <a:ext cx="1723680" cy="1676880"/>
              <a:chOff x="2633400" y="2799000"/>
              <a:chExt cx="1723680" cy="1676880"/>
            </a:xfrm>
          </p:grpSpPr>
          <p:sp>
            <p:nvSpPr>
              <p:cNvPr id="240" name="矩形 43"/>
              <p:cNvSpPr/>
              <p:nvPr/>
            </p:nvSpPr>
            <p:spPr>
              <a:xfrm>
                <a:off x="2633400" y="2799000"/>
                <a:ext cx="1396800" cy="1347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任意多边形 92"/>
              <p:cNvSpPr/>
              <p:nvPr/>
            </p:nvSpPr>
            <p:spPr>
              <a:xfrm rot="2700000">
                <a:off x="2915280" y="3205800"/>
                <a:ext cx="1294560" cy="951840"/>
              </a:xfrm>
              <a:custGeom>
                <a:avLst/>
                <a:gdLst>
                  <a:gd name="textAreaLeft" fmla="*/ 0 w 1294560"/>
                  <a:gd name="textAreaRight" fmla="*/ 1294920 w 1294560"/>
                  <a:gd name="textAreaTop" fmla="*/ 0 h 951840"/>
                  <a:gd name="textAreaBottom" fmla="*/ 952200 h 951840"/>
                </a:gdLst>
                <a:ahLst/>
                <a:rect l="textAreaLeft" t="textAreaTop" r="textAreaRight" b="textAreaBottom"/>
                <a:pathLst>
                  <a:path w="1638566" h="1162786">
                    <a:moveTo>
                      <a:pt x="370069" y="0"/>
                    </a:moveTo>
                    <a:lnTo>
                      <a:pt x="1044580" y="0"/>
                    </a:lnTo>
                    <a:lnTo>
                      <a:pt x="1638566" y="593987"/>
                    </a:lnTo>
                    <a:lnTo>
                      <a:pt x="1069767" y="1162786"/>
                    </a:lnTo>
                    <a:lnTo>
                      <a:pt x="511020" y="1162786"/>
                    </a:lnTo>
                    <a:lnTo>
                      <a:pt x="511020" y="901562"/>
                    </a:lnTo>
                    <a:lnTo>
                      <a:pt x="338443" y="908043"/>
                    </a:lnTo>
                    <a:lnTo>
                      <a:pt x="0" y="370070"/>
                    </a:lnTo>
                    <a:lnTo>
                      <a:pt x="370069" y="370070"/>
                    </a:lnTo>
                    <a:lnTo>
                      <a:pt x="370069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文本框 37"/>
              <p:cNvSpPr/>
              <p:nvPr/>
            </p:nvSpPr>
            <p:spPr>
              <a:xfrm>
                <a:off x="2791800" y="2871000"/>
                <a:ext cx="9900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K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3"/>
            <p:cNvGrpSpPr/>
            <p:nvPr/>
          </p:nvGrpSpPr>
          <p:grpSpPr>
            <a:xfrm>
              <a:off x="4149360" y="2799000"/>
              <a:ext cx="1661760" cy="1663920"/>
              <a:chOff x="4149360" y="2799000"/>
              <a:chExt cx="1661760" cy="1663920"/>
            </a:xfrm>
          </p:grpSpPr>
          <p:sp>
            <p:nvSpPr>
              <p:cNvPr id="244" name="矩形 44"/>
              <p:cNvSpPr/>
              <p:nvPr/>
            </p:nvSpPr>
            <p:spPr>
              <a:xfrm>
                <a:off x="4149360" y="2799000"/>
                <a:ext cx="1396440" cy="13478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102"/>
              <p:cNvSpPr/>
              <p:nvPr/>
            </p:nvSpPr>
            <p:spPr>
              <a:xfrm rot="2700000">
                <a:off x="4500000" y="3324960"/>
                <a:ext cx="1188000" cy="840600"/>
              </a:xfrm>
              <a:custGeom>
                <a:avLst/>
                <a:gdLst>
                  <a:gd name="textAreaLeft" fmla="*/ 0 w 1188000"/>
                  <a:gd name="textAreaRight" fmla="*/ 1188360 w 1188000"/>
                  <a:gd name="textAreaTop" fmla="*/ 0 h 840600"/>
                  <a:gd name="textAreaBottom" fmla="*/ 840960 h 840600"/>
                </a:gdLst>
                <a:ahLst/>
                <a:rect l="textAreaLeft" t="textAreaTop" r="textAreaRight" b="textAreaBottom"/>
                <a:pathLst>
                  <a:path w="1503703" h="1026825">
                    <a:moveTo>
                      <a:pt x="0" y="147470"/>
                    </a:moveTo>
                    <a:lnTo>
                      <a:pt x="147473" y="147470"/>
                    </a:lnTo>
                    <a:lnTo>
                      <a:pt x="147473" y="0"/>
                    </a:lnTo>
                    <a:lnTo>
                      <a:pt x="1018117" y="0"/>
                    </a:lnTo>
                    <a:lnTo>
                      <a:pt x="1503703" y="485585"/>
                    </a:lnTo>
                    <a:lnTo>
                      <a:pt x="962463" y="1026825"/>
                    </a:lnTo>
                    <a:lnTo>
                      <a:pt x="354946" y="1026825"/>
                    </a:lnTo>
                    <a:lnTo>
                      <a:pt x="600623" y="655042"/>
                    </a:lnTo>
                    <a:lnTo>
                      <a:pt x="92700" y="655042"/>
                    </a:lnTo>
                    <a:lnTo>
                      <a:pt x="92700" y="633245"/>
                    </a:lnTo>
                    <a:lnTo>
                      <a:pt x="0" y="633245"/>
                    </a:lnTo>
                    <a:lnTo>
                      <a:pt x="0" y="14747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文本框 38"/>
              <p:cNvSpPr/>
              <p:nvPr/>
            </p:nvSpPr>
            <p:spPr>
              <a:xfrm>
                <a:off x="4380120" y="2873520"/>
                <a:ext cx="8528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fcf6e6"/>
                    </a:solidFill>
                    <a:latin typeface="微软雅黑"/>
                    <a:ea typeface="微软雅黑"/>
                  </a:rPr>
                  <a:t>S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27"/>
            <p:cNvGrpSpPr/>
            <p:nvPr/>
          </p:nvGrpSpPr>
          <p:grpSpPr>
            <a:xfrm>
              <a:off x="5658480" y="1204920"/>
              <a:ext cx="3397320" cy="3720960"/>
              <a:chOff x="5658480" y="1204920"/>
              <a:chExt cx="3397320" cy="3720960"/>
            </a:xfrm>
          </p:grpSpPr>
          <p:sp>
            <p:nvSpPr>
              <p:cNvPr id="248" name="矩形 45"/>
              <p:cNvSpPr/>
              <p:nvPr/>
            </p:nvSpPr>
            <p:spPr>
              <a:xfrm>
                <a:off x="5658480" y="1346400"/>
                <a:ext cx="2885040" cy="2787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任意多边形 77"/>
              <p:cNvSpPr/>
              <p:nvPr/>
            </p:nvSpPr>
            <p:spPr>
              <a:xfrm rot="2700000">
                <a:off x="6411240" y="2495160"/>
                <a:ext cx="2473560" cy="1507680"/>
              </a:xfrm>
              <a:custGeom>
                <a:avLst/>
                <a:gdLst>
                  <a:gd name="textAreaLeft" fmla="*/ 0 w 2473560"/>
                  <a:gd name="textAreaRight" fmla="*/ 2473920 w 2473560"/>
                  <a:gd name="textAreaTop" fmla="*/ 0 h 1507680"/>
                  <a:gd name="textAreaBottom" fmla="*/ 1508040 h 1507680"/>
                </a:gdLst>
                <a:ahLst/>
                <a:rect l="textAreaLeft" t="textAreaTop" r="textAreaRight" b="textAreaBottom"/>
                <a:pathLst>
                  <a:path w="3130099" h="1843022">
                    <a:moveTo>
                      <a:pt x="0" y="0"/>
                    </a:moveTo>
                    <a:lnTo>
                      <a:pt x="2191889" y="0"/>
                    </a:lnTo>
                    <a:lnTo>
                      <a:pt x="3130099" y="938210"/>
                    </a:lnTo>
                    <a:lnTo>
                      <a:pt x="2225288" y="1843021"/>
                    </a:lnTo>
                    <a:lnTo>
                      <a:pt x="1226464" y="1843022"/>
                    </a:lnTo>
                    <a:lnTo>
                      <a:pt x="1226464" y="1380257"/>
                    </a:lnTo>
                    <a:lnTo>
                      <a:pt x="892873" y="1380257"/>
                    </a:lnTo>
                    <a:lnTo>
                      <a:pt x="892873" y="1250456"/>
                    </a:lnTo>
                    <a:lnTo>
                      <a:pt x="814959" y="12493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3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文本框 46"/>
              <p:cNvSpPr/>
              <p:nvPr/>
            </p:nvSpPr>
            <p:spPr>
              <a:xfrm>
                <a:off x="6505920" y="1204920"/>
                <a:ext cx="1186560" cy="372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9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800" spc="-1" strike="noStrike">
                    <a:solidFill>
                      <a:srgbClr val="fcf6e6"/>
                    </a:solidFill>
                    <a:latin typeface="Arial"/>
                    <a:ea typeface="微软雅黑"/>
                  </a:rPr>
                  <a:t>!</a:t>
                </a:r>
                <a:endParaRPr b="0" lang="en-US" sz="2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8:38:00Z</dcterms:created>
  <dc:creator>李健</dc:creator>
  <dc:description/>
  <cp:keywords/>
  <dc:language>en-US</dc:language>
  <cp:lastModifiedBy>朱静</cp:lastModifiedBy>
  <cp:lastPrinted>2014-02-27T01:06:00Z</cp:lastPrinted>
  <dcterms:modified xsi:type="dcterms:W3CDTF">2015-09-14T07:20:38Z</dcterms:modified>
  <cp:revision>2716</cp:revision>
  <dc:subject/>
  <dc:title>部门月报（新模板）2015082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