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A59-14E3-4560-B22C-E18051EF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9160"/>
            <a:ext cx="647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AAA-51FB-44FA-9111-8E9E7F1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29160"/>
            <a:ext cx="647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485-A33C-4784-AEA8-6C3F5A9A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9160"/>
            <a:ext cx="647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481-E754-438A-9BBF-F0ADF16C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29160"/>
            <a:ext cx="647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E08-22E3-4871-B5B1-423D013F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29160"/>
            <a:ext cx="647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9AE-9CFF-47C6-B0AF-DAC22CFA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29160"/>
            <a:ext cx="647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208-97A2-40F4-9EB5-90B366BE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29160"/>
            <a:ext cx="647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FBB-75A4-4A37-ADE4-7798B959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75960"/>
            <a:ext cx="64767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D64-924E-4CAA-8B2D-71570E5E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29160"/>
            <a:ext cx="647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B0F-ECB1-453A-9503-174EFD9D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29160"/>
            <a:ext cx="647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C2C-F994-434A-851D-C17A3C16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9160"/>
            <a:ext cx="647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AE0-698B-473D-B1FA-655DF89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D906-5B04-4253-8C39-CED76C4573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010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br>
              <a:rPr sz="2800"/>
            </a:br>
            <a:r>
              <a:rPr b="0" lang="zh-CN" sz="4800" spc="-1" strike="noStrike">
                <a:solidFill>
                  <a:srgbClr val="ffffff"/>
                </a:solidFill>
                <a:latin typeface="时尚中黑简体"/>
              </a:rPr>
              <a:t>入园招生话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04960" y="342900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红缨教育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2014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园所品牌介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2720" y="1917360"/>
            <a:ext cx="806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、我们是北京红缨教育集团直营的一所幼儿园，是旗舰园，北京就一家。全国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80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多所加盟的幼儿园都是来我们这学习。我们的师资队伍是非常优秀的，您把孩子送到这里来，绝对放心。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210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基础课程如社会、健康、音乐等课程之外，我们为孩子提供很多特色课程，促进孩子综合性的发展。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帮我早读书：每天</a:t>
            </a: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15——20</a:t>
            </a: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分钟，从小培养孩子的良好的阅读习惯和能力。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从中班开始每天一节专业英语课，</a:t>
            </a: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岁之前是孩子语言发展的敏感期，我们主动的为孩子提供一个良好的语言环境。一周三节的快乐数学思维课。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还有每周两次的黑白线描画美术课，每周一次的陶艺课，烤完可以带回家。每周一次的家长作业，尤其是家长作业，为家庭提供一个亲子沟通的平台。这是其他幼儿园所没有的。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其实真正的幼儿教育，不是说带着孩子去考级，更多的是以培养孩子良好的生活习惯、与学习兴趣，让孩子学会自我管理，这才是教育真正要做的事情。您把孩子送到我们这里来，我们培养孩子的习惯，教会他们怎么去学习知识、怎么去运用，将来上了小学，您压根儿就不用再担心孩子的学习。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60020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微软雅黑"/>
              </a:rPr>
              <a:t>课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14680" y="114300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园所课程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0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我们与孩子沟通也好，集体教学也好，都不是那种死板的、传统的教学形式，我们给孩子的课程无处不在。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集体教学：显型课程，我们依据每个班级的年龄特点、每月的主题活动，有目的、有计划的开展不同的课程内容。让孩子在探索中学习。比如</a:t>
            </a: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月份妈妈的节日，每个班级会根据主题设置一系列的教学活动，带动孩子积极参与。从语言、到社会、到艺术领域，都波及得到。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随时渗透：潜型课程，我们的公共环境创设、活动区角的游戏规则墙面展示，每个环节的背景音乐，都是随时教育的课程。有一个特别有意思的例子：我们每天早晨来园，都会放红缨之歌，我们没有交给孩子唱这首歌，可是每个小朋友都会唱。这就是随时教育的魅力。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复习、巩固知识：微型课程，我们晚离园环节都有一个晚间回忆环节，复习一下字卡、当天所学的儿歌或者一个舞蹈等等，除了这些，我们非常喜欢在孩子排队等待的时候给孩子复习一下手指歌谣、快速字卡识字等游戏，一方面集中孩子的注意力，另一方面可以巩固知识。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您把孩子送到我们这里，孩子不仅不知不觉就已经学到了很多的东西，而且孩子的成长是非常快的。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Arial"/>
              <a:buChar char="•"/>
            </a:pP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8720" y="76500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微软雅黑"/>
              </a:rPr>
              <a:t>上课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000" y="1701360"/>
            <a:ext cx="8210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我们非常重视孩子的健康，没有健康，什么都别谈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我们有专业的阳光体育课程体系，每天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小时的户外时间，保证孩子的活动量，因为活动量足了，胃口就好，睡眠就好，身体就结实，不爱生病，长的快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您把孩子送到我们这里，会非常的放心、省心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76500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微软雅黑"/>
              </a:rPr>
              <a:t>培养健康的身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接待话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76611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礼貌起立，“您好，有什么需要帮助吗？”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请问一下，您家宝宝几几年几月份的生日啊？”方便安排班级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您打算什么时候送宝宝入园啊？”了解宝宝入园时间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您住哪个社区，接送方便吗？因为我们这不提供班车。”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对于孩子入园的事情，您具体想了解哪一方面呢？”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4760" y="144792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入园咨询话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4960" y="2209680"/>
            <a:ext cx="8145360" cy="28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应答：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可以呀，没问题，您回家跟家人沟通一下，您有什么需要，随时跟我们联系，下周三我们也会跟您联系，回访一下。因为我们这确实名额有限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您有什么不明白的地方，可以随时问我，没关系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电话回访后，如果家长说不考虑，尽量问下原因，方便我们下一步工作的改进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981000"/>
            <a:ext cx="80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微软雅黑"/>
              </a:rPr>
              <a:t>应答话术：（家长说：“回家考虑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1701360"/>
            <a:ext cx="821052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应答：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怎么说呢，如果真拿价钱来衡量的话，您可以考量一下，我们给孩子的服务绝对不是这个价，绝对是物超所值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举例子：外边的兴趣班随便一个班都好几百块钱，而且教学质量也不一定好。在我们这，基本上全包括了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没关系，您要不回家跟家人商量一下，我这边先给您保留一个名额，如果您有什么需要，随时跟我联系，我们下周三也会联系您，回访一下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981000"/>
            <a:ext cx="80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微软雅黑"/>
              </a:rPr>
              <a:t>应答话术：（家长说：“价格有点贵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437920"/>
            <a:ext cx="8210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应答：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实在不好意思，我们这不提供班车，我们有延时服务，您可以早几点送、晚几点接，价格是多少？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p"/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我们放学后也有课外延时班，您可以直接晚接，让孩子在等待的时候多学点知识和特长。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981000"/>
            <a:ext cx="80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微软雅黑"/>
              </a:rPr>
              <a:t>应答话术：（家长说：“家里的太远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0:44:00Z</dcterms:created>
  <dc:creator>hoing</dc:creator>
  <dc:description/>
  <dc:language>en-US</dc:language>
  <cp:lastModifiedBy>fang yu</cp:lastModifiedBy>
  <dcterms:modified xsi:type="dcterms:W3CDTF">2014-05-07T06:41:16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