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1A73-2924-49E1-A755-5D53E0EEDEA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3623-CCE5-42F5-8DF7-23D92870E6A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6C7D-D05A-4EA9-B9CA-F1710EC73E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4A1-ED7F-42AE-BDD8-B19BBE63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F85-8FEC-44A0-BEE3-A58DD35F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123-7789-4AB8-9C17-433CF429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62E-B33B-425F-8DF7-83ED74E7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E409-3F3F-416C-8ECF-3848D17A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48D5-1F32-4473-8A95-009A7183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5258-D1B6-4B9F-8C1D-E12A812B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DD92-86B2-4BB2-8622-4BFE9D37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03EF-D244-4FDF-8CA8-06A1F835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BC49-4F71-4556-AD9B-7873E5A4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68C6-84A0-477E-9F7A-CDE3B39D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068F-9312-4452-9A63-522966C1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7C84-261C-41EB-873E-A209DA32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CFBA-E19B-4163-9A4D-BBBCFE5A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D86D-7053-4A2B-BF1A-264B99E2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3C50-BC26-42B8-A48E-ECF8605C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2F63-91F2-49BA-82AA-D812A8FB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DF00-84BC-4DE3-82B2-945182EB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FBC-74E0-4E0B-BB7F-03E1F97B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6DB7-2495-4D36-B494-793C1FE7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DD0-C64D-43CC-8F71-CEB1CB47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5F1-68DB-4AD8-8ED8-9CFD61A3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24A-407A-4583-9B26-725F9DC4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C37F-CC95-4F54-BDC1-B320CD25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28A7-7E5B-49C3-8482-8DE419AF8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62EA-EE54-4849-8C61-889995020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幼儿园预算管理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920" y="3657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014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4"/>
          <p:cNvSpPr/>
          <p:nvPr/>
        </p:nvSpPr>
        <p:spPr>
          <a:xfrm>
            <a:off x="3578400" y="316872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9"/>
          <p:cNvSpPr/>
          <p:nvPr/>
        </p:nvSpPr>
        <p:spPr>
          <a:xfrm>
            <a:off x="3581280" y="39006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2"/>
          <p:cNvSpPr/>
          <p:nvPr/>
        </p:nvSpPr>
        <p:spPr>
          <a:xfrm>
            <a:off x="3581280" y="468936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"/>
          <p:cNvSpPr/>
          <p:nvPr/>
        </p:nvSpPr>
        <p:spPr>
          <a:xfrm flipV="1">
            <a:off x="2597040" y="1905120"/>
            <a:ext cx="381240" cy="3808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2521080" y="4572000"/>
            <a:ext cx="457200" cy="30492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2978280" y="190512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2978280" y="487692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2901960" y="266688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2978280" y="342900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2901960" y="411480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0"/>
          <p:cNvGrpSpPr/>
          <p:nvPr/>
        </p:nvGrpSpPr>
        <p:grpSpPr>
          <a:xfrm>
            <a:off x="533520" y="2052720"/>
            <a:ext cx="2673360" cy="2671560"/>
            <a:chOff x="533520" y="2052720"/>
            <a:chExt cx="2673360" cy="2671560"/>
          </a:xfrm>
        </p:grpSpPr>
        <p:sp>
          <p:nvSpPr>
            <p:cNvPr id="102" name="Oval 11"/>
            <p:cNvSpPr/>
            <p:nvPr/>
          </p:nvSpPr>
          <p:spPr>
            <a:xfrm>
              <a:off x="533520" y="2052720"/>
              <a:ext cx="2673360" cy="2671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2"/>
            <p:cNvSpPr/>
            <p:nvPr/>
          </p:nvSpPr>
          <p:spPr>
            <a:xfrm>
              <a:off x="709920" y="2225520"/>
              <a:ext cx="2319120" cy="2322000"/>
            </a:xfrm>
            <a:prstGeom prst="ellipse">
              <a:avLst/>
            </a:prstGeom>
            <a:gradFill rotWithShape="0">
              <a:gsLst>
                <a:gs pos="0">
                  <a:srgbClr val="536e00"/>
                </a:gs>
                <a:gs pos="50000">
                  <a:srgbClr val="99cc00"/>
                </a:gs>
                <a:gs pos="100000">
                  <a:srgbClr val="536e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3"/>
            <p:cNvSpPr/>
            <p:nvPr/>
          </p:nvSpPr>
          <p:spPr>
            <a:xfrm>
              <a:off x="721080" y="2238120"/>
              <a:ext cx="2319120" cy="2320560"/>
            </a:xfrm>
            <a:prstGeom prst="ellipse">
              <a:avLst/>
            </a:prstGeom>
            <a:gradFill rotWithShape="0">
              <a:gsLst>
                <a:gs pos="0">
                  <a:srgbClr val="618200"/>
                </a:gs>
                <a:gs pos="100000">
                  <a:srgbClr val="99cc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4"/>
            <p:cNvSpPr/>
            <p:nvPr/>
          </p:nvSpPr>
          <p:spPr>
            <a:xfrm>
              <a:off x="824040" y="2342880"/>
              <a:ext cx="2090880" cy="208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5"/>
            <p:cNvSpPr/>
            <p:nvPr/>
          </p:nvSpPr>
          <p:spPr>
            <a:xfrm>
              <a:off x="857520" y="2376360"/>
              <a:ext cx="2025720" cy="202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6"/>
            <p:cNvSpPr/>
            <p:nvPr/>
          </p:nvSpPr>
          <p:spPr>
            <a:xfrm>
              <a:off x="883080" y="2387520"/>
              <a:ext cx="1977840" cy="1977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7"/>
            <p:cNvSpPr/>
            <p:nvPr/>
          </p:nvSpPr>
          <p:spPr>
            <a:xfrm>
              <a:off x="905040" y="2406600"/>
              <a:ext cx="1879560" cy="18475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8"/>
            <p:cNvSpPr/>
            <p:nvPr/>
          </p:nvSpPr>
          <p:spPr>
            <a:xfrm>
              <a:off x="1014840" y="2458800"/>
              <a:ext cx="1671480" cy="149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19" descr="mark"/>
            <p:cNvPicPr/>
            <p:nvPr/>
          </p:nvPicPr>
          <p:blipFill>
            <a:blip r:embed="rId1"/>
            <a:stretch/>
          </p:blipFill>
          <p:spPr>
            <a:xfrm>
              <a:off x="1028880" y="2614320"/>
              <a:ext cx="1604880" cy="159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AutoShape 20"/>
          <p:cNvSpPr/>
          <p:nvPr/>
        </p:nvSpPr>
        <p:spPr>
          <a:xfrm>
            <a:off x="3581280" y="167652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5558400" y="17524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一、幼儿园编制预算的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2"/>
          <p:cNvSpPr/>
          <p:nvPr/>
        </p:nvSpPr>
        <p:spPr>
          <a:xfrm>
            <a:off x="3581280" y="242568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3"/>
          <p:cNvSpPr/>
          <p:nvPr/>
        </p:nvSpPr>
        <p:spPr>
          <a:xfrm>
            <a:off x="5810760" y="3214800"/>
            <a:ext cx="743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三、如何编制幼儿园预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5"/>
          <p:cNvSpPr/>
          <p:nvPr/>
        </p:nvSpPr>
        <p:spPr>
          <a:xfrm>
            <a:off x="5569560" y="3976560"/>
            <a:ext cx="743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四、幼儿园预算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6"/>
          <p:cNvSpPr/>
          <p:nvPr/>
        </p:nvSpPr>
        <p:spPr>
          <a:xfrm>
            <a:off x="3492360" y="1793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7"/>
          <p:cNvSpPr/>
          <p:nvPr/>
        </p:nvSpPr>
        <p:spPr>
          <a:xfrm>
            <a:off x="3505320" y="2558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8"/>
          <p:cNvSpPr/>
          <p:nvPr/>
        </p:nvSpPr>
        <p:spPr>
          <a:xfrm>
            <a:off x="3505320" y="3314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2222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5221080" y="4738680"/>
            <a:ext cx="743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五、知识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31"/>
          <p:cNvSpPr/>
          <p:nvPr/>
        </p:nvSpPr>
        <p:spPr>
          <a:xfrm>
            <a:off x="349236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4"/>
          <p:cNvSpPr/>
          <p:nvPr/>
        </p:nvSpPr>
        <p:spPr>
          <a:xfrm>
            <a:off x="3505320" y="4822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3933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5918040" y="2452680"/>
            <a:ext cx="743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二、幼儿园预算包含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555480" y="2568600"/>
            <a:ext cx="7991640" cy="302904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1766880" y="1627200"/>
            <a:ext cx="5543640" cy="76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100000">
                <a:srgbClr val="5672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实现幼儿园持续经营和股东收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527040" y="4462560"/>
            <a:ext cx="1474920" cy="14731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HY각헤드라인M"/>
              </a:rPr>
              <a:t>强迫计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5"/>
          <p:cNvSpPr/>
          <p:nvPr/>
        </p:nvSpPr>
        <p:spPr>
          <a:xfrm>
            <a:off x="3755880" y="4462560"/>
            <a:ext cx="1474920" cy="1473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HY각헤드라인M"/>
              </a:rPr>
              <a:t>合理分配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2103480" y="4462560"/>
            <a:ext cx="1474920" cy="1473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HY각헤드라인M"/>
              </a:rPr>
              <a:t>明确收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5407200" y="4462560"/>
            <a:ext cx="1474560" cy="1473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HY각헤드라인M"/>
              </a:rPr>
              <a:t>员工绩效考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0"/>
          <p:cNvSpPr/>
          <p:nvPr/>
        </p:nvSpPr>
        <p:spPr>
          <a:xfrm>
            <a:off x="7072200" y="4462560"/>
            <a:ext cx="1474920" cy="14731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HY각헤드라인M"/>
              </a:rPr>
              <a:t>提升方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2"/>
          <p:cNvSpPr/>
          <p:nvPr/>
        </p:nvSpPr>
        <p:spPr>
          <a:xfrm>
            <a:off x="527040" y="6081840"/>
            <a:ext cx="1474920" cy="395280"/>
          </a:xfrm>
          <a:prstGeom prst="ellipse">
            <a:avLst/>
          </a:prstGeom>
          <a:gradFill rotWithShape="0">
            <a:gsLst>
              <a:gs pos="0">
                <a:srgbClr val="3333cc">
                  <a:alpha val="30196"/>
                </a:srgbClr>
              </a:gs>
              <a:gs pos="100000">
                <a:srgbClr val="18185e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2039760" y="6081840"/>
            <a:ext cx="1474920" cy="395280"/>
          </a:xfrm>
          <a:prstGeom prst="ellipse">
            <a:avLst/>
          </a:prstGeom>
          <a:gradFill rotWithShape="0">
            <a:gsLst>
              <a:gs pos="0">
                <a:srgbClr val="3333cc">
                  <a:alpha val="30196"/>
                </a:srgbClr>
              </a:gs>
              <a:gs pos="100000">
                <a:srgbClr val="18185e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4"/>
          <p:cNvSpPr/>
          <p:nvPr/>
        </p:nvSpPr>
        <p:spPr>
          <a:xfrm>
            <a:off x="3772080" y="6081840"/>
            <a:ext cx="1474560" cy="395280"/>
          </a:xfrm>
          <a:prstGeom prst="ellipse">
            <a:avLst/>
          </a:prstGeom>
          <a:gradFill rotWithShape="0">
            <a:gsLst>
              <a:gs pos="0">
                <a:srgbClr val="3333cc">
                  <a:alpha val="30196"/>
                </a:srgbClr>
              </a:gs>
              <a:gs pos="100000">
                <a:srgbClr val="18185e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5"/>
          <p:cNvSpPr/>
          <p:nvPr/>
        </p:nvSpPr>
        <p:spPr>
          <a:xfrm>
            <a:off x="5398920" y="6081840"/>
            <a:ext cx="1474920" cy="395280"/>
          </a:xfrm>
          <a:prstGeom prst="ellipse">
            <a:avLst/>
          </a:prstGeom>
          <a:gradFill rotWithShape="0">
            <a:gsLst>
              <a:gs pos="0">
                <a:srgbClr val="3333cc">
                  <a:alpha val="30196"/>
                </a:srgbClr>
              </a:gs>
              <a:gs pos="100000">
                <a:srgbClr val="18185e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6"/>
          <p:cNvSpPr/>
          <p:nvPr/>
        </p:nvSpPr>
        <p:spPr>
          <a:xfrm>
            <a:off x="7064280" y="6081840"/>
            <a:ext cx="1474920" cy="395280"/>
          </a:xfrm>
          <a:prstGeom prst="ellipse">
            <a:avLst/>
          </a:prstGeom>
          <a:gradFill rotWithShape="0">
            <a:gsLst>
              <a:gs pos="0">
                <a:srgbClr val="3333cc">
                  <a:alpha val="30196"/>
                </a:srgbClr>
              </a:gs>
              <a:gs pos="100000">
                <a:srgbClr val="18185e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17"/>
          <p:cNvSpPr txBox="1"/>
          <p:nvPr/>
        </p:nvSpPr>
        <p:spPr>
          <a:xfrm>
            <a:off x="2824200" y="3552840"/>
            <a:ext cx="332892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3333cc">
                      <a:alpha val="50000"/>
                    </a:srgbClr>
                  </a:outerShdw>
                </a:effectLst>
                <a:latin typeface="宋体"/>
              </a:rPr>
              <a:t>心中有数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3333cc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36" name="组合 19"/>
          <p:cNvGrpSpPr/>
          <p:nvPr/>
        </p:nvGrpSpPr>
        <p:grpSpPr>
          <a:xfrm>
            <a:off x="152280" y="882720"/>
            <a:ext cx="3429000" cy="488880"/>
            <a:chOff x="152280" y="882720"/>
            <a:chExt cx="3429000" cy="488880"/>
          </a:xfrm>
        </p:grpSpPr>
        <p:sp>
          <p:nvSpPr>
            <p:cNvPr id="137" name="AutoShape 20"/>
            <p:cNvSpPr/>
            <p:nvPr/>
          </p:nvSpPr>
          <p:spPr>
            <a:xfrm>
              <a:off x="272880" y="882720"/>
              <a:ext cx="3308400" cy="48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1"/>
            <p:cNvSpPr/>
            <p:nvPr/>
          </p:nvSpPr>
          <p:spPr>
            <a:xfrm>
              <a:off x="506880" y="95868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幼儿园编制预算的目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6"/>
            <p:cNvSpPr/>
            <p:nvPr/>
          </p:nvSpPr>
          <p:spPr>
            <a:xfrm>
              <a:off x="152280" y="1000080"/>
              <a:ext cx="210960" cy="218880"/>
            </a:xfrm>
            <a:prstGeom prst="ellipse">
              <a:avLst/>
            </a:prstGeom>
            <a:gradFill rotWithShape="0">
              <a:gsLst>
                <a:gs pos="0">
                  <a:srgbClr val="e96e29"/>
                </a:gs>
                <a:gs pos="100000">
                  <a:srgbClr val="9b491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22"/>
          <p:cNvGrpSpPr/>
          <p:nvPr/>
        </p:nvGrpSpPr>
        <p:grpSpPr>
          <a:xfrm>
            <a:off x="1563840" y="1531800"/>
            <a:ext cx="6221160" cy="4807080"/>
            <a:chOff x="1563840" y="1531800"/>
            <a:chExt cx="6221160" cy="4807080"/>
          </a:xfrm>
        </p:grpSpPr>
        <p:pic>
          <p:nvPicPr>
            <p:cNvPr id="141" name="Picture 42" descr="11"/>
            <p:cNvPicPr/>
            <p:nvPr/>
          </p:nvPicPr>
          <p:blipFill>
            <a:blip r:embed="rId1"/>
            <a:stretch/>
          </p:blipFill>
          <p:spPr>
            <a:xfrm>
              <a:off x="3421440" y="1531800"/>
              <a:ext cx="238608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28"/>
            <p:cNvSpPr/>
            <p:nvPr/>
          </p:nvSpPr>
          <p:spPr>
            <a:xfrm>
              <a:off x="3353400" y="1657080"/>
              <a:ext cx="252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收支结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4"/>
            <p:cNvSpPr/>
            <p:nvPr/>
          </p:nvSpPr>
          <p:spPr>
            <a:xfrm>
              <a:off x="1853280" y="2218320"/>
              <a:ext cx="5590800" cy="4051800"/>
            </a:xfrm>
            <a:prstGeom prst="upArrow">
              <a:avLst>
                <a:gd name="adj1" fmla="val 73769"/>
                <a:gd name="adj2" fmla="val 32588"/>
              </a:avLst>
            </a:prstGeom>
            <a:gradFill rotWithShape="0">
              <a:gsLst>
                <a:gs pos="0">
                  <a:srgbClr val="ad83eb"/>
                </a:gs>
                <a:gs pos="100000">
                  <a:srgbClr val="0033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>
              <a:off x="2739960" y="3454560"/>
              <a:ext cx="3817800" cy="2884320"/>
            </a:xfrm>
            <a:prstGeom prst="upArrow">
              <a:avLst>
                <a:gd name="adj1" fmla="val 72694"/>
                <a:gd name="adj2" fmla="val 33931"/>
              </a:avLst>
            </a:prstGeom>
            <a:gradFill rotWithShape="0">
              <a:gsLst>
                <a:gs pos="0">
                  <a:srgbClr val="6fc5e3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33"/>
            <p:cNvSpPr/>
            <p:nvPr/>
          </p:nvSpPr>
          <p:spPr>
            <a:xfrm>
              <a:off x="4252320" y="4267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Arial"/>
                </a:rPr>
                <a:t>管理支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39"/>
            <p:cNvSpPr/>
            <p:nvPr/>
          </p:nvSpPr>
          <p:spPr>
            <a:xfrm>
              <a:off x="4113720" y="29052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2060"/>
                  </a:solidFill>
                  <a:latin typeface="Arial"/>
                </a:rPr>
                <a:t>幼儿园收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40"/>
            <p:cNvSpPr/>
            <p:nvPr/>
          </p:nvSpPr>
          <p:spPr>
            <a:xfrm>
              <a:off x="5603400" y="4828320"/>
              <a:ext cx="2181600" cy="151056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ec823a"/>
                </a:gs>
                <a:gs pos="100000">
                  <a:srgbClr val="0033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2"/>
            <p:cNvSpPr/>
            <p:nvPr/>
          </p:nvSpPr>
          <p:spPr>
            <a:xfrm>
              <a:off x="3575160" y="4862520"/>
              <a:ext cx="2045160" cy="144216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ec823a"/>
                </a:gs>
                <a:gs pos="100000">
                  <a:srgbClr val="0033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43"/>
            <p:cNvSpPr/>
            <p:nvPr/>
          </p:nvSpPr>
          <p:spPr>
            <a:xfrm>
              <a:off x="3916080" y="5638680"/>
              <a:ext cx="134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2060"/>
                  </a:solidFill>
                  <a:latin typeface="Arial"/>
                </a:rPr>
                <a:t>人员支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44"/>
            <p:cNvSpPr/>
            <p:nvPr/>
          </p:nvSpPr>
          <p:spPr>
            <a:xfrm>
              <a:off x="6496560" y="5638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2060"/>
                  </a:solidFill>
                  <a:latin typeface="Arial"/>
                </a:rPr>
                <a:t>购置支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46"/>
            <p:cNvSpPr/>
            <p:nvPr/>
          </p:nvSpPr>
          <p:spPr>
            <a:xfrm>
              <a:off x="1563840" y="4871160"/>
              <a:ext cx="2045160" cy="144216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ec823a"/>
                </a:gs>
                <a:gs pos="100000">
                  <a:srgbClr val="0033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7"/>
            <p:cNvSpPr/>
            <p:nvPr/>
          </p:nvSpPr>
          <p:spPr>
            <a:xfrm>
              <a:off x="2220480" y="56523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2060"/>
                  </a:solidFill>
                  <a:latin typeface="Arial"/>
                </a:rPr>
                <a:t>伙食支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26"/>
          <p:cNvGrpSpPr/>
          <p:nvPr/>
        </p:nvGrpSpPr>
        <p:grpSpPr>
          <a:xfrm>
            <a:off x="242640" y="912960"/>
            <a:ext cx="3567240" cy="532440"/>
            <a:chOff x="242640" y="912960"/>
            <a:chExt cx="3567240" cy="532440"/>
          </a:xfrm>
        </p:grpSpPr>
        <p:sp>
          <p:nvSpPr>
            <p:cNvPr id="154" name="AutoShape 22"/>
            <p:cNvSpPr/>
            <p:nvPr/>
          </p:nvSpPr>
          <p:spPr>
            <a:xfrm>
              <a:off x="396720" y="912960"/>
              <a:ext cx="3413160" cy="48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7"/>
            <p:cNvSpPr/>
            <p:nvPr/>
          </p:nvSpPr>
          <p:spPr>
            <a:xfrm>
              <a:off x="242640" y="1046160"/>
              <a:ext cx="255600" cy="249120"/>
            </a:xfrm>
            <a:prstGeom prst="ellipse">
              <a:avLst/>
            </a:prstGeom>
            <a:gradFill rotWithShape="0">
              <a:gsLst>
                <a:gs pos="0">
                  <a:srgbClr val="dcdc48"/>
                </a:gs>
                <a:gs pos="100000">
                  <a:srgbClr val="93933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3"/>
            <p:cNvSpPr/>
            <p:nvPr/>
          </p:nvSpPr>
          <p:spPr>
            <a:xfrm>
              <a:off x="776520" y="939960"/>
              <a:ext cx="7430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二、幼儿园预算包含的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组合 21"/>
          <p:cNvGrpSpPr/>
          <p:nvPr/>
        </p:nvGrpSpPr>
        <p:grpSpPr>
          <a:xfrm>
            <a:off x="228600" y="914400"/>
            <a:ext cx="3581280" cy="488880"/>
            <a:chOff x="228600" y="914400"/>
            <a:chExt cx="3581280" cy="488880"/>
          </a:xfrm>
        </p:grpSpPr>
        <p:sp>
          <p:nvSpPr>
            <p:cNvPr id="158" name="AutoShape 24"/>
            <p:cNvSpPr/>
            <p:nvPr/>
          </p:nvSpPr>
          <p:spPr>
            <a:xfrm>
              <a:off x="380880" y="914400"/>
              <a:ext cx="3429000" cy="48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228600" y="1060200"/>
              <a:ext cx="233280" cy="23508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2266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23"/>
          <p:cNvSpPr/>
          <p:nvPr/>
        </p:nvSpPr>
        <p:spPr>
          <a:xfrm>
            <a:off x="0" y="914400"/>
            <a:ext cx="3494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三、如何编制幼儿园预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41520" y="2133720"/>
            <a:ext cx="7740360" cy="618840"/>
          </a:xfrm>
          <a:prstGeom prst="rect">
            <a:avLst/>
          </a:prstGeom>
          <a:solidFill>
            <a:srgbClr val="5bb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630360" y="2133720"/>
            <a:ext cx="2053800" cy="618480"/>
            <a:chOff x="630360" y="2133720"/>
            <a:chExt cx="2053800" cy="618480"/>
          </a:xfrm>
        </p:grpSpPr>
        <p:sp>
          <p:nvSpPr>
            <p:cNvPr id="163" name="Rectangle 5"/>
            <p:cNvSpPr/>
            <p:nvPr/>
          </p:nvSpPr>
          <p:spPr>
            <a:xfrm>
              <a:off x="630360" y="2133720"/>
              <a:ext cx="1912680" cy="618480"/>
            </a:xfrm>
            <a:prstGeom prst="rect">
              <a:avLst/>
            </a:prstGeom>
            <a:solidFill>
              <a:srgbClr val="f77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6"/>
            <p:cNvSpPr/>
            <p:nvPr/>
          </p:nvSpPr>
          <p:spPr>
            <a:xfrm rot="5400000">
              <a:off x="2444760" y="2350440"/>
              <a:ext cx="288360" cy="190440"/>
            </a:xfrm>
            <a:prstGeom prst="triangle">
              <a:avLst>
                <a:gd name="adj" fmla="val 50000"/>
              </a:avLst>
            </a:prstGeom>
            <a:solidFill>
              <a:srgbClr val="f77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2544840" y="22654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分步实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652320" y="22399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准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4116240" y="230040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effff"/>
          </a:soli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4495680" y="22654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沟通与达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6145200" y="2300400"/>
            <a:ext cx="368280" cy="272880"/>
          </a:xfrm>
          <a:prstGeom prst="rightArrow">
            <a:avLst>
              <a:gd name="adj1" fmla="val 50000"/>
              <a:gd name="adj2" fmla="val 60501"/>
            </a:avLst>
          </a:prstGeom>
          <a:solidFill>
            <a:srgbClr val="feffff"/>
          </a:soli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6483240" y="22654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审批下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927000" y="2882880"/>
            <a:ext cx="1114560" cy="1114560"/>
          </a:xfrm>
          <a:prstGeom prst="diamond">
            <a:avLst/>
          </a:prstGeom>
          <a:solidFill>
            <a:srgbClr val="f77a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2908440" y="2882880"/>
            <a:ext cx="1114200" cy="1114560"/>
          </a:xfrm>
          <a:prstGeom prst="diamond">
            <a:avLst/>
          </a:prstGeom>
          <a:solidFill>
            <a:srgbClr val="8f03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4898880" y="2882880"/>
            <a:ext cx="1114560" cy="1114560"/>
          </a:xfrm>
          <a:prstGeom prst="diamond">
            <a:avLst/>
          </a:prstGeom>
          <a:solidFill>
            <a:srgbClr val="8f03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6842160" y="2882880"/>
            <a:ext cx="1114560" cy="1114560"/>
          </a:xfrm>
          <a:prstGeom prst="diamond">
            <a:avLst/>
          </a:prstGeom>
          <a:solidFill>
            <a:srgbClr val="8f03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17"/>
          <p:cNvCxnSpPr>
            <a:stCxn id="171" idx="3"/>
            <a:endCxn id="172" idx="1"/>
          </p:cNvCxnSpPr>
          <p:nvPr/>
        </p:nvCxnSpPr>
        <p:spPr>
          <a:xfrm>
            <a:off x="2041560" y="343980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76" name="AutoShape 18"/>
          <p:cNvCxnSpPr>
            <a:stCxn id="172" idx="3"/>
            <a:endCxn id="173" idx="1"/>
          </p:cNvCxnSpPr>
          <p:nvPr/>
        </p:nvCxnSpPr>
        <p:spPr>
          <a:xfrm>
            <a:off x="4022640" y="343980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77" name="AutoShape 19"/>
          <p:cNvCxnSpPr>
            <a:stCxn id="173" idx="3"/>
            <a:endCxn id="174" idx="1"/>
          </p:cNvCxnSpPr>
          <p:nvPr/>
        </p:nvCxnSpPr>
        <p:spPr>
          <a:xfrm>
            <a:off x="6013440" y="343980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78" name="Text Box 20"/>
          <p:cNvSpPr/>
          <p:nvPr/>
        </p:nvSpPr>
        <p:spPr>
          <a:xfrm>
            <a:off x="1030320" y="3208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3019320" y="3208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编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5029200" y="3208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汇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6981840" y="32083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673200" y="4087800"/>
            <a:ext cx="16142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842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与股东初步达成幼儿园经营目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解各部门收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制定预算编制计划，包括：负责人、时间节点、表格、要求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5"/>
          <p:cNvSpPr/>
          <p:nvPr/>
        </p:nvSpPr>
        <p:spPr>
          <a:xfrm>
            <a:off x="2616120" y="4087800"/>
            <a:ext cx="16146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842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各负责人负责完成所属部分收入、支出项目的预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按照要求填写表格并提供预算的具体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4630680" y="4087800"/>
            <a:ext cx="16146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842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按照计划收集分部分负责人的预算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将各分部预算汇总，与上一年度实际比对后进行调整或说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7"/>
          <p:cNvSpPr/>
          <p:nvPr/>
        </p:nvSpPr>
        <p:spPr>
          <a:xfrm>
            <a:off x="6578640" y="4087800"/>
            <a:ext cx="16146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-842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将预算提交园长进行审批，如未通过则进行修改直至通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将预算提交股东审批；通过后下发执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2"/>
          <p:cNvGraphicFramePr/>
          <p:nvPr/>
        </p:nvGraphicFramePr>
        <p:xfrm>
          <a:off x="5867280" y="990720"/>
          <a:ext cx="1219320" cy="91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990720"/>
                    <a:ext cx="1219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15"/>
          <p:cNvGrpSpPr/>
          <p:nvPr/>
        </p:nvGrpSpPr>
        <p:grpSpPr>
          <a:xfrm>
            <a:off x="152280" y="882720"/>
            <a:ext cx="3429000" cy="488880"/>
            <a:chOff x="152280" y="882720"/>
            <a:chExt cx="3429000" cy="488880"/>
          </a:xfrm>
        </p:grpSpPr>
        <p:sp>
          <p:nvSpPr>
            <p:cNvPr id="189" name="AutoShape 20"/>
            <p:cNvSpPr/>
            <p:nvPr/>
          </p:nvSpPr>
          <p:spPr>
            <a:xfrm>
              <a:off x="272880" y="882720"/>
              <a:ext cx="3308400" cy="48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6"/>
            <p:cNvSpPr/>
            <p:nvPr/>
          </p:nvSpPr>
          <p:spPr>
            <a:xfrm>
              <a:off x="152280" y="1000080"/>
              <a:ext cx="210960" cy="218880"/>
            </a:xfrm>
            <a:prstGeom prst="ellipse">
              <a:avLst/>
            </a:prstGeom>
            <a:gradFill rotWithShape="0">
              <a:gsLst>
                <a:gs pos="0">
                  <a:srgbClr val="e96e29"/>
                </a:gs>
                <a:gs pos="100000">
                  <a:srgbClr val="9b491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25"/>
          <p:cNvSpPr/>
          <p:nvPr/>
        </p:nvSpPr>
        <p:spPr>
          <a:xfrm>
            <a:off x="997560" y="863640"/>
            <a:ext cx="743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四、幼儿园预算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1329840" y="617400"/>
            <a:ext cx="6031800" cy="5656680"/>
            <a:chOff x="1329840" y="617400"/>
            <a:chExt cx="6031800" cy="5656680"/>
          </a:xfrm>
        </p:grpSpPr>
        <p:sp>
          <p:nvSpPr>
            <p:cNvPr id="193" name="Freeform 2"/>
            <p:cNvSpPr/>
            <p:nvPr/>
          </p:nvSpPr>
          <p:spPr>
            <a:xfrm rot="14128200">
              <a:off x="4688280" y="351360"/>
              <a:ext cx="1251720" cy="3608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43010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3"/>
            <p:cNvSpPr/>
            <p:nvPr/>
          </p:nvSpPr>
          <p:spPr>
            <a:xfrm rot="14922600">
              <a:off x="4827240" y="559800"/>
              <a:ext cx="1251720" cy="3608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e6cd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5"/>
            <p:cNvSpPr/>
            <p:nvPr/>
          </p:nvSpPr>
          <p:spPr>
            <a:xfrm rot="20805000">
              <a:off x="4522680" y="2570760"/>
              <a:ext cx="1251720" cy="3607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516ae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"/>
            <p:cNvSpPr/>
            <p:nvPr/>
          </p:nvSpPr>
          <p:spPr>
            <a:xfrm rot="5461200">
              <a:off x="2606760" y="2014200"/>
              <a:ext cx="1251360" cy="3608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4992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"/>
            <p:cNvSpPr/>
            <p:nvPr/>
          </p:nvSpPr>
          <p:spPr>
            <a:xfrm>
              <a:off x="4307040" y="2640240"/>
              <a:ext cx="1251720" cy="3607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5ddf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"/>
            <p:cNvSpPr/>
            <p:nvPr/>
          </p:nvSpPr>
          <p:spPr>
            <a:xfrm rot="6256200">
              <a:off x="2606760" y="1809000"/>
              <a:ext cx="1251720" cy="3608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eae8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9"/>
            <p:cNvGrpSpPr/>
            <p:nvPr/>
          </p:nvGrpSpPr>
          <p:grpSpPr>
            <a:xfrm>
              <a:off x="3662280" y="2610000"/>
              <a:ext cx="1457280" cy="1456920"/>
              <a:chOff x="3662280" y="2610000"/>
              <a:chExt cx="1457280" cy="1456920"/>
            </a:xfrm>
          </p:grpSpPr>
          <p:sp>
            <p:nvSpPr>
              <p:cNvPr id="200" name="Oval 10"/>
              <p:cNvSpPr/>
              <p:nvPr/>
            </p:nvSpPr>
            <p:spPr>
              <a:xfrm>
                <a:off x="3662280" y="2610000"/>
                <a:ext cx="1457280" cy="14569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6e1e1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828600" y="2634120"/>
                <a:ext cx="1124280" cy="549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1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Text Box 12"/>
            <p:cNvSpPr/>
            <p:nvPr/>
          </p:nvSpPr>
          <p:spPr>
            <a:xfrm>
              <a:off x="4031280" y="2819880"/>
              <a:ext cx="668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efefe"/>
                  </a:solidFill>
                  <a:latin typeface="Arial"/>
                </a:rPr>
                <a:t>预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efefe"/>
                  </a:solidFill>
                  <a:latin typeface="Arial"/>
                </a:rPr>
                <a:t>控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2243520" y="2779200"/>
              <a:ext cx="118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每一笔支出均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进行预算审批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4"/>
            <p:cNvSpPr/>
            <p:nvPr/>
          </p:nvSpPr>
          <p:spPr>
            <a:xfrm>
              <a:off x="5574960" y="187848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按月比对预算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实际收入、支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5"/>
            <p:cNvSpPr/>
            <p:nvPr/>
          </p:nvSpPr>
          <p:spPr>
            <a:xfrm>
              <a:off x="3823920" y="472068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预算执行情况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入年度绩效考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2"/>
          <p:cNvGrpSpPr/>
          <p:nvPr/>
        </p:nvGrpSpPr>
        <p:grpSpPr>
          <a:xfrm>
            <a:off x="243000" y="1065240"/>
            <a:ext cx="3566880" cy="488880"/>
            <a:chOff x="243000" y="1065240"/>
            <a:chExt cx="3566880" cy="488880"/>
          </a:xfrm>
        </p:grpSpPr>
        <p:sp>
          <p:nvSpPr>
            <p:cNvPr id="207" name="AutoShape 22"/>
            <p:cNvSpPr/>
            <p:nvPr/>
          </p:nvSpPr>
          <p:spPr>
            <a:xfrm>
              <a:off x="396720" y="1065240"/>
              <a:ext cx="3413160" cy="48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7"/>
            <p:cNvSpPr/>
            <p:nvPr/>
          </p:nvSpPr>
          <p:spPr>
            <a:xfrm>
              <a:off x="243000" y="1198440"/>
              <a:ext cx="255240" cy="249120"/>
            </a:xfrm>
            <a:prstGeom prst="ellipse">
              <a:avLst/>
            </a:prstGeom>
            <a:gradFill rotWithShape="0">
              <a:gsLst>
                <a:gs pos="0">
                  <a:srgbClr val="dcdc48"/>
                </a:gs>
                <a:gs pos="100000">
                  <a:srgbClr val="93933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3"/>
          <p:cNvGrpSpPr/>
          <p:nvPr/>
        </p:nvGrpSpPr>
        <p:grpSpPr>
          <a:xfrm>
            <a:off x="533520" y="2133720"/>
            <a:ext cx="3047760" cy="2742840"/>
            <a:chOff x="533520" y="2133720"/>
            <a:chExt cx="3047760" cy="2742840"/>
          </a:xfrm>
        </p:grpSpPr>
        <p:sp>
          <p:nvSpPr>
            <p:cNvPr id="210" name="Puzzle3"/>
            <p:cNvSpPr/>
            <p:nvPr/>
          </p:nvSpPr>
          <p:spPr>
            <a:xfrm>
              <a:off x="2017800" y="2133720"/>
              <a:ext cx="1197720" cy="1457640"/>
            </a:xfrm>
            <a:prstGeom prst="pie">
              <a:avLst/>
            </a:prstGeom>
            <a:gradFill rotWithShape="0">
              <a:gsLst>
                <a:gs pos="0">
                  <a:srgbClr val="ff9e5d"/>
                </a:gs>
                <a:gs pos="100000">
                  <a:srgbClr val="ff66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Puzzle2"/>
            <p:cNvSpPr/>
            <p:nvPr/>
          </p:nvSpPr>
          <p:spPr>
            <a:xfrm>
              <a:off x="1668240" y="3195720"/>
              <a:ext cx="1913040" cy="1326600"/>
            </a:xfrm>
            <a:prstGeom prst="pie">
              <a:avLst/>
            </a:prstGeom>
            <a:gradFill rotWithShape="0">
              <a:gsLst>
                <a:gs pos="0">
                  <a:srgbClr val="ffe88b"/>
                </a:gs>
                <a:gs pos="100000">
                  <a:srgbClr val="ffcc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Puzzle4"/>
            <p:cNvSpPr/>
            <p:nvPr/>
          </p:nvSpPr>
          <p:spPr>
            <a:xfrm>
              <a:off x="929160" y="3180240"/>
              <a:ext cx="1153800" cy="1696320"/>
            </a:xfrm>
            <a:prstGeom prst="pi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cbe57c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Puzzle1"/>
            <p:cNvSpPr/>
            <p:nvPr/>
          </p:nvSpPr>
          <p:spPr>
            <a:xfrm>
              <a:off x="533520" y="2574720"/>
              <a:ext cx="1934640" cy="1010880"/>
            </a:xfrm>
            <a:prstGeom prst="pi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27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30"/>
          <p:cNvSpPr/>
          <p:nvPr/>
        </p:nvSpPr>
        <p:spPr>
          <a:xfrm>
            <a:off x="801360" y="1092240"/>
            <a:ext cx="743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五、知识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267080" y="19810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、关注国家关于幼儿园财务管理的要求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4267080" y="280980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、按照民间非营利组织会计制度、会计科目及会计报表执行财务核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267080" y="402912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、红缨连锁加盟标准中财务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6095880" y="5029200"/>
          <a:ext cx="132084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5029200"/>
                    <a:ext cx="13208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d0d0d"/>
                </a:solidFill>
                <a:latin typeface="Arial"/>
                <a:ea typeface="时尚中黑简体"/>
              </a:rPr>
              <a:t>Q &amp; 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Arial"/>
                <a:ea typeface="时尚中黑简体"/>
              </a:rPr>
              <a:t>谢</a:t>
            </a:r>
            <a:r>
              <a:rPr b="1" lang="en-US" sz="6000" spc="-1" strike="noStrike">
                <a:solidFill>
                  <a:srgbClr val="0d0d0d"/>
                </a:solidFill>
                <a:latin typeface="Arial"/>
                <a:ea typeface="时尚中黑简体"/>
              </a:rPr>
              <a:t> </a:t>
            </a:r>
            <a:r>
              <a:rPr b="1" lang="zh-CN" sz="6000" spc="-1" strike="noStrike">
                <a:solidFill>
                  <a:srgbClr val="0d0d0d"/>
                </a:solidFill>
                <a:latin typeface="Arial"/>
                <a:ea typeface="时尚中黑简体"/>
              </a:rPr>
              <a:t>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02:06:02Z</dcterms:created>
  <dc:creator>LY</dc:creator>
  <dc:description/>
  <dc:language>en-US</dc:language>
  <cp:lastModifiedBy>zhujing</cp:lastModifiedBy>
  <dcterms:modified xsi:type="dcterms:W3CDTF">2014-02-25T07:33:21Z</dcterms:modified>
  <cp:revision>4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  <property fmtid="{D5CDD505-2E9C-101B-9397-08002B2CF9AE}" pid="3" name="Version">
    <vt:r8>1</vt:r8>
  </property>
</Properties>
</file>